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7C68-7A51-407C-8BF8-190E371ED2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E22D-7152-499D-9697-B6D9994B97E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6C4-2643-4E72-BB98-30E5D93D1DE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88CF0-BC27-4DA3-A76C-CB7F38E4EF17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igual que los carbohidratos, los lípidos se componen de carbono, hidrógeno y oxígeno, la diferencia radica en que la cantidad de hidrógeno es superior a la cantidad de átomos de oxígeno, confiriendo a estos compuestos propiedades químicas distintas. Los lípidos o grasas son insolubles en agua y constituyen una fuente de energía muy eficiente, ya que proporciona el doble de la energía de los carbohidratos y las proteínas. La importancia biológica de los lípidos radica en ser compuestos que sirven para regular la temperatura corporal y que funcionan como reserva energé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animales sólo pueden almacenar pequeñas cantidades de carbohidratos, por eso, los que no se pueden almacenar en el hígado en forma de glucógeno, se transforman en grasas y se almacenan en el tejido adiposo. El tejido adiposo actúa como una capa aislante térmica y como sustancia de reserva energética muy importante en todos los animales y el homb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lípidos se clasifican en dos grup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4D97-BFEF-49C0-9102-EBCB38931036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164-0865-4CC4-AF97-33F94C49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D8F-A2E6-40D2-9F3E-3088092D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D4EB6-D2D6-47DC-B961-3345984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9C334-0CC5-4B2B-951C-78A5523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B8EAA-1616-4AAF-AB2A-54A7F8D3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0D6BE-F374-492F-BA6B-122C928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8BD00-3C23-4E4E-8840-97C3B0A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267F9-389D-43BA-B5AA-7861DF37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D930-881A-42BA-947B-F655B7D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B7F00-A370-49A4-8C2C-FBE80A3B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EA4D8-2965-4ED1-8328-7C2515E7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94FDE-29EE-48AF-B547-2C444A7D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7F0-1A60-4A59-AEDC-C5D77874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93811-E554-44CE-95C7-9EA1CC5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3A7B7-D7BD-43ED-86B3-54118295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AA1CE-836D-4340-B3B4-CAF6D77B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3132F-2F5D-4092-B11B-80CD2543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41689-CCDF-445E-8B44-211EB079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49400-52F3-471B-A464-21CC9DA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27EA9-9F68-478F-B3A0-2197D7D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E06A4-84CD-4484-9A49-0DE3B3B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14B31-68E8-48DC-AAEB-63626F4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4A83F-BC79-4ED6-BB51-B45F9253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842-8210-4056-897C-ED2AEC35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89A7A-3300-4813-B232-FEC5FC42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3D122-69E8-4F8C-8EE6-9EBC03B2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9E879-226F-40A0-88C7-2A12C0D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24D25-1BC5-4D26-B664-A89F2F6A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6E168-6B08-4487-9F94-5316C13C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0E3D0-2C7A-4693-9C34-A63D872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5A079-5E0E-4BA2-AD0E-DC29AE0F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57445-6A6E-42ED-AC73-246F7A7C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95D9B-0E63-46E5-85CC-6EC6830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9553B-7DFA-4992-80D4-D17CF9B6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3314-1D88-43EF-A3A3-7FE51640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AB86C-B5A2-4209-99D6-F23A6045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5873E-A13F-417C-8C99-880CD449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007AC-579A-46A0-A2B0-52C9D25C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78745-55C3-4E9D-8627-7C8792C2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248D3-2105-42AA-8F1E-FDB59A7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50DBA-3618-4A9F-B625-7D6D9B9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41471-C249-4B05-99C0-151D7E23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CC196-EFF0-40B6-8235-EFEAA0BE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49297-E81B-4158-A3FF-5A5A3EE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7EE66-B390-4678-B978-BF8029B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C532-F620-4A71-92FF-F5BBF2E4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34C30-54B0-4FE4-8E71-FCDF776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5C5B5-163B-4E05-9C5B-52C0F36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B138A-60E5-49A5-AB08-23B1E543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992A3-374E-4D95-8BA4-779CEC37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E0770-F27B-4FC5-8D8D-202BEBA7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05772-8BD5-4050-B3C5-0BED8285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7B308-ED9C-435D-A905-C147F575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8EA86-DC95-4734-8C31-F0490CDD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22CEE-434C-4100-AF9C-DE982F5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27C51-B7F8-44F2-B000-9CEB1F9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CC5F-2861-451A-84FA-6B9CE01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571D1-C6F5-4D53-9A25-8E83B082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BEB63-BB16-4882-AFAD-4DD3A997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6A8EF-674A-46F3-9824-046919B4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2D8B9-31EB-437E-9B82-B0D6B6B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1E01A-014D-4006-AA70-2C73B59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CCECA-74C2-4A6C-BBDE-49A0C9E1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427DA-BC83-4952-AF30-DFD19542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BEC-3B51-449D-9E1E-66602713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FD62-DD94-4C48-84B7-CB4C4521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C0B3-4332-4B7B-9230-DC508DB1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1D8-527A-4CDC-80E0-1A99088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7A5-E8F8-4993-B55D-94F4D8FC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B858-FFBB-4D21-ADA5-288BAE3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6E28-D7A8-47A3-95B6-0CD3DE3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75F9-C905-494E-9235-7337F3DA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5306-99FC-4EFF-9A3D-5AD3E487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087B-5D8B-45D1-81D1-768B374A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4F74-FA9D-4043-9F47-5E164A92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9FF8-47FF-465D-BC2A-76E0B69C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61C5-3650-4437-90E3-213631F8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D9E9-2089-431D-8751-7A0B38F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AA22-8598-4183-B343-2737225A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836-FABC-4C25-B846-B308C5B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4292-003E-428F-BADE-9508771F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8FA5-A0A3-4A40-9D4B-D1404B00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74C8-85E2-46B9-A835-5E63135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C126-15D5-4D1A-B1C9-9FA8E8C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5B73-C96C-47E1-AD51-98C0383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6EA0-28B8-4D81-A451-DCD5A209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9A63-9692-48B8-990E-BD1F3300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3235E-D30A-4386-BF91-AC56DB74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EC39-6988-4424-A394-830E7F0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24A55-7CF6-4F7C-9AB4-C9024D36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E69-4CCF-4EE7-8F99-7F61DB86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35F4E-8C6F-4984-8D8B-AD0D3E7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158E-0059-4F85-B015-8E7DCD0E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965C-34C1-49AD-9F4D-F930A630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8818-AC76-43FD-AC3F-67F5E92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19FA-8582-4B23-AAE8-54B7E8B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DFED-EB29-4E0A-B7CD-29B2251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D8659-63C3-4111-8DA9-B25C8A3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E0BD-E5D5-44F2-807E-6FE661B2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17A6-8B72-4D18-B761-9D066994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30E88-56FD-4F9C-B70E-517A1F83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24E-09EC-4829-9478-013FCDE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3092F-E292-4B53-9EE4-82713279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E710-2131-465D-93A7-B8AC35EF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991A-F530-4E6A-9DA3-A62920E0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D21F-9DC2-49AB-B4D9-BF3D385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DA8C-1360-4487-9488-2C7A347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0967-0473-4224-A6A9-446E076C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29C6-A6EC-4266-8B09-8AD8A9B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913B-CD80-4C8A-AA4F-EA6C99E8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2775-7FA0-4356-8B1A-AFA6CEA2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0E68F-68E8-4B3A-BD55-3484E7CC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65B-8CAB-4D21-9C04-96D34FDE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5196-BD44-4547-ACDA-CDB87E7A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2C8B-E157-45EA-8ED7-61C4C708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53F4-8937-484D-80E4-CD010B4C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F79FC-4E8C-43A9-92B7-EA8541AA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2204-7461-4185-B988-1FE4327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3ADA-E7DF-4A50-92E5-BDAB6216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69374-31D4-4E2F-A8B9-E2323AFE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0077-E7C1-4FB0-B0C7-FB2D29D1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8DE0F-B9B3-4400-9ED8-AA48A7E0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352B2-5975-4531-8D22-0E36D15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401-0A1F-4255-870C-678E4756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9024-FB33-4417-946A-C34C2916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0CA1-E2F2-4F41-BD28-858CB37B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D58DB-AE20-471B-9A55-644AFBBC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5AA7E-BA77-4381-A076-585FAC7A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31CA-881E-4C93-8B1E-823FBAF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F207-F07D-410A-B645-180266DD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E62F-84EC-40A7-96C0-926AF9B1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0EB03-F849-420A-87C0-33C37EBF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0469-9974-4665-83C2-B8CD97E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BB3DD-4053-4922-AE43-5EFCF11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BF9-6B82-41C2-928E-D7D0700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9549-D0D2-4620-8A72-B484A083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612D-A2D4-45F8-BF6F-A406093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1C87-5C58-47C9-8827-9D8DCEE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65EEC-FD01-4C22-8302-0F83C407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4CD91-5C24-4A3D-8C59-B4634A64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CF8E4-EB1D-4355-B19B-A1C163E3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ED66-65E7-4FCF-836A-F72CFE2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22DDE-31EA-4431-B85F-A403698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4B8D9-3B53-4E1E-8E7A-B544C7C9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1DC76-CAC4-4CF7-979C-A9F1B6B0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6DC-EF83-4E80-9A8C-7FD86501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F67F-DEB7-464B-84B6-BB30DE23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CD012-8C4D-4BCD-962A-B2656040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6C54A-A873-47E1-9E12-39F3381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32C41-683D-4883-8B9F-F583701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27D25-EBCA-4EE3-A2C1-535C367B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1C576-2D82-4789-A66A-7EB5C58E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7A9C5-1DFD-4FBF-BF2A-03909534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F8E5F-AC25-4191-BEDD-517C62F2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27229-63B0-421E-B078-8270E343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D7A81-C922-4F29-95C6-3517C7FD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E950-0A9F-475E-949A-0621FE7C542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D0AE-23A4-4089-A02A-140EC89B3A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621C-B336-48B4-B6EC-1CC66E2940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6E93-04BA-417A-89D4-3397FDCEAD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8649-A584-4B4B-81AB-1A5BCC213A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AB1-DA9C-4512-880A-550C34A4C8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2CB2-CB6E-4F35-A2E9-06A68EAEA5A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5005-8E58-46A1-AF29-4BD4665C48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CE55-A264-4134-A84D-235F0E1A66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57DF-10A4-4C32-A69B-1C324B6DA0F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36C4-D4B2-4CAD-A550-B32CA0062A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2554-C0D3-4B71-8D4D-86B686E216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B1A3-7791-4A3B-A441-B26E6263C7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482760" y="1152360"/>
            <a:ext cx="82296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IA y LCyTA)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Macronutrientes. Lípidos. Digestión y absorción. Rol como nutrientes. Resíntesis intestinal de triglicéridos. Metabolismo de lípidos.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Transporte de lípidos. Rol de las lipoproteínas. Composición química y funciones. Oxidación de ácidos grasos saturados. Carnitina. Activación, beta oxidación, distintas etapas. Oxidación de los ácidos grasos insaturados y con numero impar de átomos de carbono. Balance energético. Formación de cuerpos cetónicos. Oxidación peroxisómica de ácidos grasos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BOLILLA 6 (Lic. en Biol. Molec.)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  <a:ea typeface="Arial"/>
              </a:rPr>
              <a:t>LIPIDOS. Digestión y absorción de lípidos.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METABOLISMO DE LIPIDOS: Transporte de lípidos en el sistema circulatorio. Lipoproteínas. Composición. Apolipoproteínas. Metabolismo de los quilomicrones, de las lipoproteínas de muy baja densidad (VLDL) y de baja densidad (LDL). Lipoproteína (a) y riesgo de ateroesclerosis. Metabolismo de las lipoproteínas de alta densidad (HDL). Degradación metabólica de los lípidos: hidrólisis de los triglicéridos por lipasas dependiente de AMPc. OXIDACION DE ACIDOS GRASOS: saturados e insaturados de número par de átomos de carbono (beta-oxidación). Regulación de la utilización de sustrato.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250920" y="1159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       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Calibri"/>
                <a:ea typeface="Arial"/>
              </a:rPr>
              <a:t>LBM, IA y LCy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Esquema General de la Digestión Lipíd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Cuadro de texto 5"/>
          <p:cNvSpPr/>
          <p:nvPr/>
        </p:nvSpPr>
        <p:spPr>
          <a:xfrm>
            <a:off x="539640" y="1214280"/>
            <a:ext cx="784872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 DE LA DIE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, 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Cuadro de texto 9"/>
          <p:cNvSpPr/>
          <p:nvPr/>
        </p:nvSpPr>
        <p:spPr>
          <a:xfrm>
            <a:off x="6012000" y="3868560"/>
            <a:ext cx="241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Elipse 10"/>
          <p:cNvSpPr/>
          <p:nvPr/>
        </p:nvSpPr>
        <p:spPr>
          <a:xfrm>
            <a:off x="785880" y="321480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lipse 11"/>
          <p:cNvSpPr/>
          <p:nvPr/>
        </p:nvSpPr>
        <p:spPr>
          <a:xfrm>
            <a:off x="773280" y="5276880"/>
            <a:ext cx="1726920" cy="115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9 Flecha curvada hacia abajo"/>
          <p:cNvSpPr/>
          <p:nvPr/>
        </p:nvSpPr>
        <p:spPr>
          <a:xfrm rot="1575000">
            <a:off x="5855760" y="3141720"/>
            <a:ext cx="1257480" cy="612720"/>
          </a:xfrm>
          <a:custGeom>
            <a:avLst/>
            <a:gdLst>
              <a:gd name="textAreaLeft" fmla="*/ 252360 w 1257480"/>
              <a:gd name="textAreaRight" fmla="*/ 871560 w 125748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74" hR="21600" stAng="10800000" swAng="5400000"/>
                <a:lnTo>
                  <a:pt x="10634" y="0"/>
                </a:lnTo>
                <a:arcTo wR="8674" hR="21600" stAng="-5400000" swAng="1372733"/>
                <a:lnTo>
                  <a:pt x="19210" y="6710"/>
                </a:lnTo>
                <a:lnTo>
                  <a:pt x="18327" y="21600"/>
                </a:lnTo>
                <a:lnTo>
                  <a:pt x="12664" y="6710"/>
                </a:lnTo>
                <a:lnTo>
                  <a:pt x="14957" y="6710"/>
                </a:lnTo>
                <a:arcTo wR="8674" hR="21600" stAng="-4027267" swAng="-1215865"/>
                <a:lnTo>
                  <a:pt x="9654" y="138"/>
                </a:lnTo>
                <a:arcTo wR="8674" hR="21600" stAng="-5556868" swAng="-5243132"/>
                <a:close/>
              </a:path>
              <a:path fill="darkenLess" w="21600" h="21600">
                <a:moveTo>
                  <a:pt x="0" y="21600"/>
                </a:moveTo>
                <a:arcTo wR="8674" hR="21600" stAng="10800000" swAng="5400000"/>
                <a:lnTo>
                  <a:pt x="8674" y="0"/>
                </a:lnTo>
                <a:arcTo wR="8674" hR="21600" stAng="-5400000" swAng="156868"/>
                <a:lnTo>
                  <a:pt x="9654" y="138"/>
                </a:lnTo>
                <a:arcTo wR="8674" hR="21600" stAng="-5556868" swAng="-524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10 Flecha curvada hacia abajo"/>
          <p:cNvSpPr/>
          <p:nvPr/>
        </p:nvSpPr>
        <p:spPr>
          <a:xfrm rot="8064600">
            <a:off x="6013800" y="5561640"/>
            <a:ext cx="1280880" cy="546120"/>
          </a:xfrm>
          <a:custGeom>
            <a:avLst/>
            <a:gdLst>
              <a:gd name="textAreaLeft" fmla="*/ 250920 w 1280880"/>
              <a:gd name="textAreaRight" fmla="*/ 889920 w 1280880"/>
              <a:gd name="textAreaTop" fmla="*/ 73080 h 546120"/>
              <a:gd name="textAreaBottom" fmla="*/ 473040 h 54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9" hR="21600" stAng="10800000" swAng="5400000"/>
                <a:lnTo>
                  <a:pt x="10770" y="0"/>
                </a:lnTo>
                <a:arcTo wR="8469" hR="21600" stAng="-5400000" swAng="1343596"/>
                <a:lnTo>
                  <a:pt x="19266" y="6710"/>
                </a:lnTo>
                <a:lnTo>
                  <a:pt x="18089" y="21600"/>
                </a:lnTo>
                <a:lnTo>
                  <a:pt x="12243" y="6710"/>
                </a:lnTo>
                <a:lnTo>
                  <a:pt x="14604" y="6710"/>
                </a:lnTo>
                <a:arcTo wR="8469" hR="21600" stAng="-4056404" swAng="-1158953"/>
                <a:lnTo>
                  <a:pt x="9620" y="200"/>
                </a:lnTo>
                <a:arcTo wR="8469" hR="21600" stAng="-5584643" swAng="-5215357"/>
                <a:close/>
              </a:path>
              <a:path fill="darkenLess" w="21600" h="21600">
                <a:moveTo>
                  <a:pt x="0" y="21600"/>
                </a:moveTo>
                <a:arcTo wR="8469" hR="21600" stAng="10800000" swAng="5400000"/>
                <a:lnTo>
                  <a:pt x="8469" y="0"/>
                </a:lnTo>
                <a:arcTo wR="8469" hR="21600" stAng="-5400000" swAng="184643"/>
                <a:lnTo>
                  <a:pt x="9620" y="200"/>
                </a:lnTo>
                <a:arcTo wR="8469" hR="21600" stAng="-5584643" swAng="-52153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590" name="Group 3"/>
          <p:cNvGrpSpPr/>
          <p:nvPr/>
        </p:nvGrpSpPr>
        <p:grpSpPr>
          <a:xfrm>
            <a:off x="2843280" y="1792440"/>
            <a:ext cx="6265080" cy="368280"/>
            <a:chOff x="2843280" y="1792440"/>
            <a:chExt cx="6265080" cy="368280"/>
          </a:xfrm>
        </p:grpSpPr>
        <p:sp>
          <p:nvSpPr>
            <p:cNvPr id="591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Text Box 5"/>
            <p:cNvSpPr/>
            <p:nvPr/>
          </p:nvSpPr>
          <p:spPr>
            <a:xfrm>
              <a:off x="5625000" y="1792440"/>
              <a:ext cx="34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salival (muy poca actividad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Group 6"/>
          <p:cNvGrpSpPr/>
          <p:nvPr/>
        </p:nvGrpSpPr>
        <p:grpSpPr>
          <a:xfrm>
            <a:off x="3132000" y="4340160"/>
            <a:ext cx="5034960" cy="2136600"/>
            <a:chOff x="3132000" y="4340160"/>
            <a:chExt cx="5034960" cy="2136600"/>
          </a:xfrm>
        </p:grpSpPr>
        <p:sp>
          <p:nvSpPr>
            <p:cNvPr id="594" name="Line 7"/>
            <p:cNvSpPr/>
            <p:nvPr/>
          </p:nvSpPr>
          <p:spPr>
            <a:xfrm>
              <a:off x="3132000" y="4508640"/>
              <a:ext cx="255384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Text Box 8"/>
            <p:cNvSpPr/>
            <p:nvPr/>
          </p:nvSpPr>
          <p:spPr>
            <a:xfrm>
              <a:off x="5766120" y="4340160"/>
              <a:ext cx="240084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Calibri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 </a:t>
              </a:r>
              <a:r>
                <a:rPr b="1" i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rmonas (Secretina,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olecistoquinina )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i="1" lang="es-ES" sz="18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Sales biliar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pancreátic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Estear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00"/>
                  </a:solidFill>
                  <a:latin typeface="Calibri"/>
                  <a:ea typeface="Arial"/>
                </a:rPr>
                <a:t>Fosfolip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 </a:t>
              </a:r>
              <a:r>
                <a:rPr b="1" i="1" lang="es-ES" sz="2000" spc="-1" strike="noStrike">
                  <a:solidFill>
                    <a:srgbClr val="00cc99"/>
                  </a:solidFill>
                  <a:latin typeface="Calibri"/>
                  <a:ea typeface="Arial"/>
                </a:rPr>
                <a:t>Fosfatas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6" name="Group 9"/>
          <p:cNvGrpSpPr/>
          <p:nvPr/>
        </p:nvGrpSpPr>
        <p:grpSpPr>
          <a:xfrm>
            <a:off x="3564000" y="3521160"/>
            <a:ext cx="4980240" cy="368280"/>
            <a:chOff x="3564000" y="3521160"/>
            <a:chExt cx="4980240" cy="368280"/>
          </a:xfrm>
        </p:grpSpPr>
        <p:sp>
          <p:nvSpPr>
            <p:cNvPr id="597" name="Line 10"/>
            <p:cNvSpPr/>
            <p:nvPr/>
          </p:nvSpPr>
          <p:spPr>
            <a:xfrm flipV="1">
              <a:off x="3564000" y="3743280"/>
              <a:ext cx="1865160" cy="460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Text Box 11"/>
            <p:cNvSpPr/>
            <p:nvPr/>
          </p:nvSpPr>
          <p:spPr>
            <a:xfrm>
              <a:off x="5436000" y="3521160"/>
              <a:ext cx="310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alibri"/>
                  <a:ea typeface="Arial"/>
                </a:rPr>
                <a:t>Lipasa gástrica (10-30 % de TG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13 CuadroTexto"/>
          <p:cNvSpPr/>
          <p:nvPr/>
        </p:nvSpPr>
        <p:spPr>
          <a:xfrm>
            <a:off x="1945080" y="214200"/>
            <a:ext cx="55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  <a:ea typeface="Arial"/>
              </a:rPr>
              <a:t>Digestión y Absorción de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 Rounded MT Bold"/>
              </a:rPr>
              <a:t>Función de las sales bili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8435880" cy="538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603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 Rounded MT Bold"/>
              </a:rPr>
              <a:t>Enzimas Digestiv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23640" y="1285920"/>
            <a:ext cx="85690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600" spc="-1" strike="noStrike" u="sng">
                <a:solidFill>
                  <a:srgbClr val="0033cc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600" spc="-1" strike="noStrike" u="sng">
                <a:solidFill>
                  <a:srgbClr val="0033cc"/>
                </a:solidFill>
                <a:uFillTx/>
                <a:latin typeface="Arial Rounded MT Bold"/>
              </a:rPr>
              <a:t> lipasa</a:t>
            </a:r>
            <a:r>
              <a:rPr b="0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 : </a:t>
            </a:r>
            <a:r>
              <a:rPr b="1" lang="es-ES" sz="2600" spc="-1" strike="noStrike">
                <a:solidFill>
                  <a:srgbClr val="0033cc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600" spc="-1" strike="noStrike" u="sng" baseline="-25000">
                <a:solidFill>
                  <a:srgbClr val="00cc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600" spc="-1" strike="noStrike">
                <a:solidFill>
                  <a:srgbClr val="00cc00"/>
                </a:solidFill>
                <a:latin typeface="Arial Rounded MT Bold"/>
                <a:ea typeface="Arial"/>
              </a:rPr>
              <a:t>: Actúa sobre el C 2 de fosfolípi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00b0f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600" spc="-1" strike="noStrike">
                <a:solidFill>
                  <a:srgbClr val="00b0f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6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ángulo 109"/>
          <p:cNvSpPr/>
          <p:nvPr/>
        </p:nvSpPr>
        <p:spPr>
          <a:xfrm rot="16200000">
            <a:off x="7661880" y="33195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upo 136"/>
          <p:cNvGrpSpPr/>
          <p:nvPr/>
        </p:nvGrpSpPr>
        <p:grpSpPr>
          <a:xfrm>
            <a:off x="7020000" y="1928880"/>
            <a:ext cx="2116440" cy="799200"/>
            <a:chOff x="7020000" y="1928880"/>
            <a:chExt cx="2116440" cy="799200"/>
          </a:xfrm>
        </p:grpSpPr>
        <p:grpSp>
          <p:nvGrpSpPr>
            <p:cNvPr id="623" name="Grupo 135"/>
            <p:cNvGrpSpPr/>
            <p:nvPr/>
          </p:nvGrpSpPr>
          <p:grpSpPr>
            <a:xfrm>
              <a:off x="7020000" y="1928880"/>
              <a:ext cx="2116440" cy="799200"/>
              <a:chOff x="7020000" y="1928880"/>
              <a:chExt cx="2116440" cy="799200"/>
            </a:xfrm>
          </p:grpSpPr>
          <p:grpSp>
            <p:nvGrpSpPr>
              <p:cNvPr id="624" name="Grupo 134"/>
              <p:cNvGrpSpPr/>
              <p:nvPr/>
            </p:nvGrpSpPr>
            <p:grpSpPr>
              <a:xfrm>
                <a:off x="7020000" y="1928880"/>
                <a:ext cx="1701720" cy="795960"/>
                <a:chOff x="7020000" y="1928880"/>
                <a:chExt cx="1701720" cy="795960"/>
              </a:xfrm>
            </p:grpSpPr>
            <p:sp>
              <p:nvSpPr>
                <p:cNvPr id="625" name="Rectángulo 56"/>
                <p:cNvSpPr/>
                <p:nvPr/>
              </p:nvSpPr>
              <p:spPr>
                <a:xfrm>
                  <a:off x="7020000" y="23637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75"/>
                <p:cNvSpPr/>
                <p:nvPr/>
              </p:nvSpPr>
              <p:spPr>
                <a:xfrm>
                  <a:off x="7542000" y="23572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76"/>
                <p:cNvSpPr/>
                <p:nvPr/>
              </p:nvSpPr>
              <p:spPr>
                <a:xfrm>
                  <a:off x="7853400" y="23540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Rectángulo 81"/>
                <p:cNvSpPr/>
                <p:nvPr/>
              </p:nvSpPr>
              <p:spPr>
                <a:xfrm>
                  <a:off x="7524720" y="19288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9" name="Línea 77"/>
                <p:cNvSpPr/>
                <p:nvPr/>
              </p:nvSpPr>
              <p:spPr>
                <a:xfrm>
                  <a:off x="7835760" y="24987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0" name="Línea 78"/>
                <p:cNvSpPr/>
                <p:nvPr/>
              </p:nvSpPr>
              <p:spPr>
                <a:xfrm>
                  <a:off x="7424640" y="24908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Línea 79"/>
                <p:cNvSpPr/>
                <p:nvPr/>
              </p:nvSpPr>
              <p:spPr>
                <a:xfrm>
                  <a:off x="7667640" y="22478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Línea 80"/>
                <p:cNvSpPr/>
                <p:nvPr/>
              </p:nvSpPr>
              <p:spPr>
                <a:xfrm>
                  <a:off x="7723080" y="22464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3" name="Rectángulo 83"/>
              <p:cNvSpPr/>
              <p:nvPr/>
            </p:nvSpPr>
            <p:spPr>
              <a:xfrm>
                <a:off x="8597520" y="235728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Línea 82"/>
            <p:cNvSpPr/>
            <p:nvPr/>
          </p:nvSpPr>
          <p:spPr>
            <a:xfrm>
              <a:off x="8483760" y="25066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Línea 91"/>
          <p:cNvSpPr/>
          <p:nvPr/>
        </p:nvSpPr>
        <p:spPr>
          <a:xfrm>
            <a:off x="7818480" y="355752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Cuadro de texto 110"/>
          <p:cNvSpPr/>
          <p:nvPr/>
        </p:nvSpPr>
        <p:spPr>
          <a:xfrm>
            <a:off x="395280" y="303120"/>
            <a:ext cx="83534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Hidrólisis de Triglicéridos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acción de la </a:t>
            </a:r>
            <a:r>
              <a:rPr b="1" i="1" lang="en-US" sz="3200" spc="-1" strike="noStrike">
                <a:solidFill>
                  <a:srgbClr val="ff0000"/>
                </a:solidFill>
                <a:latin typeface="Arial Rounded MT Bold"/>
              </a:rPr>
              <a:t>lipasa pancre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ángulo 112"/>
          <p:cNvSpPr/>
          <p:nvPr/>
        </p:nvSpPr>
        <p:spPr>
          <a:xfrm>
            <a:off x="6348960" y="521496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Cuadro de texto 114"/>
          <p:cNvSpPr/>
          <p:nvPr/>
        </p:nvSpPr>
        <p:spPr>
          <a:xfrm>
            <a:off x="4427640" y="206676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ángulo 111"/>
          <p:cNvSpPr/>
          <p:nvPr/>
        </p:nvSpPr>
        <p:spPr>
          <a:xfrm>
            <a:off x="642240" y="521496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ángulo 132"/>
          <p:cNvSpPr/>
          <p:nvPr/>
        </p:nvSpPr>
        <p:spPr>
          <a:xfrm>
            <a:off x="4650840" y="451476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1" name="Grupo 138"/>
          <p:cNvGrpSpPr/>
          <p:nvPr/>
        </p:nvGrpSpPr>
        <p:grpSpPr>
          <a:xfrm>
            <a:off x="7051680" y="4299120"/>
            <a:ext cx="2046600" cy="714960"/>
            <a:chOff x="7051680" y="4299120"/>
            <a:chExt cx="2046600" cy="714960"/>
          </a:xfrm>
        </p:grpSpPr>
        <p:grpSp>
          <p:nvGrpSpPr>
            <p:cNvPr id="642" name="Grupo 137"/>
            <p:cNvGrpSpPr/>
            <p:nvPr/>
          </p:nvGrpSpPr>
          <p:grpSpPr>
            <a:xfrm>
              <a:off x="7051680" y="4299120"/>
              <a:ext cx="2046600" cy="714960"/>
              <a:chOff x="7051680" y="4299120"/>
              <a:chExt cx="2046600" cy="714960"/>
            </a:xfrm>
          </p:grpSpPr>
          <p:grpSp>
            <p:nvGrpSpPr>
              <p:cNvPr id="643" name="Grupo 131"/>
              <p:cNvGrpSpPr/>
              <p:nvPr/>
            </p:nvGrpSpPr>
            <p:grpSpPr>
              <a:xfrm>
                <a:off x="7051680" y="4299120"/>
                <a:ext cx="2046600" cy="714960"/>
                <a:chOff x="7051680" y="4299120"/>
                <a:chExt cx="2046600" cy="714960"/>
              </a:xfrm>
            </p:grpSpPr>
            <p:sp>
              <p:nvSpPr>
                <p:cNvPr id="644" name="Rectángulo 74"/>
                <p:cNvSpPr/>
                <p:nvPr/>
              </p:nvSpPr>
              <p:spPr>
                <a:xfrm>
                  <a:off x="7051680" y="46083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5" name="Rectángulo 94"/>
                <p:cNvSpPr/>
                <p:nvPr/>
              </p:nvSpPr>
              <p:spPr>
                <a:xfrm>
                  <a:off x="7786800" y="4622760"/>
                  <a:ext cx="80316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6" name="Rectángulo 99"/>
                <p:cNvSpPr/>
                <p:nvPr/>
              </p:nvSpPr>
              <p:spPr>
                <a:xfrm>
                  <a:off x="7513560" y="42991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7" name="Rectángulo 101"/>
                <p:cNvSpPr/>
                <p:nvPr/>
              </p:nvSpPr>
              <p:spPr>
                <a:xfrm>
                  <a:off x="8559360" y="464328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48" name="Rectángulo 93"/>
              <p:cNvSpPr/>
              <p:nvPr/>
            </p:nvSpPr>
            <p:spPr>
              <a:xfrm>
                <a:off x="7505640" y="46069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Línea 100"/>
              <p:cNvSpPr/>
              <p:nvPr/>
            </p:nvSpPr>
            <p:spPr>
              <a:xfrm>
                <a:off x="8488440" y="47782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Línea 95"/>
            <p:cNvSpPr/>
            <p:nvPr/>
          </p:nvSpPr>
          <p:spPr>
            <a:xfrm>
              <a:off x="7746840" y="47689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Línea 96"/>
            <p:cNvSpPr/>
            <p:nvPr/>
          </p:nvSpPr>
          <p:spPr>
            <a:xfrm>
              <a:off x="7462800" y="47610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Línea 97"/>
            <p:cNvSpPr/>
            <p:nvPr/>
          </p:nvSpPr>
          <p:spPr>
            <a:xfrm>
              <a:off x="7648560" y="45543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Línea 98"/>
            <p:cNvSpPr/>
            <p:nvPr/>
          </p:nvSpPr>
          <p:spPr>
            <a:xfrm>
              <a:off x="7704000" y="45529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133 Grupo"/>
          <p:cNvGrpSpPr/>
          <p:nvPr/>
        </p:nvGrpSpPr>
        <p:grpSpPr>
          <a:xfrm>
            <a:off x="3059280" y="2857680"/>
            <a:ext cx="2160360" cy="1512720"/>
            <a:chOff x="3059280" y="2857680"/>
            <a:chExt cx="2160360" cy="1512720"/>
          </a:xfrm>
        </p:grpSpPr>
        <p:sp>
          <p:nvSpPr>
            <p:cNvPr id="655" name="Rectángulo 107"/>
            <p:cNvSpPr/>
            <p:nvPr/>
          </p:nvSpPr>
          <p:spPr>
            <a:xfrm>
              <a:off x="3059280" y="2857680"/>
              <a:ext cx="189684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Lipas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Pancreátic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 6-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Línea 133"/>
            <p:cNvSpPr/>
            <p:nvPr/>
          </p:nvSpPr>
          <p:spPr>
            <a:xfrm>
              <a:off x="3143160" y="350064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Rectángulo 151"/>
            <p:cNvSpPr/>
            <p:nvPr/>
          </p:nvSpPr>
          <p:spPr>
            <a:xfrm>
              <a:off x="4932360" y="4010040"/>
              <a:ext cx="2872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upo 178"/>
          <p:cNvGrpSpPr/>
          <p:nvPr/>
        </p:nvGrpSpPr>
        <p:grpSpPr>
          <a:xfrm>
            <a:off x="331920" y="2286000"/>
            <a:ext cx="2739960" cy="2626560"/>
            <a:chOff x="331920" y="2286000"/>
            <a:chExt cx="2739960" cy="2626560"/>
          </a:xfrm>
        </p:grpSpPr>
        <p:sp>
          <p:nvSpPr>
            <p:cNvPr id="659" name="Rectángulo 47"/>
            <p:cNvSpPr/>
            <p:nvPr/>
          </p:nvSpPr>
          <p:spPr>
            <a:xfrm>
              <a:off x="1308240" y="3606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0" name="Grupo 177"/>
            <p:cNvGrpSpPr/>
            <p:nvPr/>
          </p:nvGrpSpPr>
          <p:grpSpPr>
            <a:xfrm>
              <a:off x="331920" y="2286000"/>
              <a:ext cx="2739960" cy="2626560"/>
              <a:chOff x="331920" y="2286000"/>
              <a:chExt cx="2739960" cy="2626560"/>
            </a:xfrm>
          </p:grpSpPr>
          <p:sp>
            <p:nvSpPr>
              <p:cNvPr id="661" name="Rectángulo 49"/>
              <p:cNvSpPr/>
              <p:nvPr/>
            </p:nvSpPr>
            <p:spPr>
              <a:xfrm>
                <a:off x="2498400" y="3868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Rectángulo 163"/>
              <p:cNvSpPr/>
              <p:nvPr/>
            </p:nvSpPr>
            <p:spPr>
              <a:xfrm>
                <a:off x="1698840" y="3868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Línea 164"/>
              <p:cNvSpPr/>
              <p:nvPr/>
            </p:nvSpPr>
            <p:spPr>
              <a:xfrm>
                <a:off x="2370240" y="4013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4" name="Grupo 176"/>
              <p:cNvGrpSpPr/>
              <p:nvPr/>
            </p:nvGrpSpPr>
            <p:grpSpPr>
              <a:xfrm>
                <a:off x="331920" y="2286000"/>
                <a:ext cx="2739960" cy="2626560"/>
                <a:chOff x="331920" y="2286000"/>
                <a:chExt cx="2739960" cy="2626560"/>
              </a:xfrm>
            </p:grpSpPr>
            <p:sp>
              <p:nvSpPr>
                <p:cNvPr id="665" name="Rectángulo 13"/>
                <p:cNvSpPr/>
                <p:nvPr/>
              </p:nvSpPr>
              <p:spPr>
                <a:xfrm>
                  <a:off x="655560" y="4251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6" name="Rectángulo 12"/>
                <p:cNvSpPr/>
                <p:nvPr/>
              </p:nvSpPr>
              <p:spPr>
                <a:xfrm>
                  <a:off x="642960" y="3907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7" name="Línea 14"/>
                <p:cNvSpPr/>
                <p:nvPr/>
              </p:nvSpPr>
              <p:spPr>
                <a:xfrm>
                  <a:off x="817560" y="4167360"/>
                  <a:ext cx="0" cy="13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Rectángulo 17"/>
                <p:cNvSpPr/>
                <p:nvPr/>
              </p:nvSpPr>
              <p:spPr>
                <a:xfrm>
                  <a:off x="339840" y="3916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9" name="Línea 18"/>
                <p:cNvSpPr/>
                <p:nvPr/>
              </p:nvSpPr>
              <p:spPr>
                <a:xfrm>
                  <a:off x="595440" y="4062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0" name="Rectángulo 22"/>
                <p:cNvSpPr/>
                <p:nvPr/>
              </p:nvSpPr>
              <p:spPr>
                <a:xfrm>
                  <a:off x="1033560" y="3915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Rectángulo 41"/>
                <p:cNvSpPr/>
                <p:nvPr/>
              </p:nvSpPr>
              <p:spPr>
                <a:xfrm>
                  <a:off x="1299960" y="3913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Línea 43"/>
                <p:cNvSpPr/>
                <p:nvPr/>
              </p:nvSpPr>
              <p:spPr>
                <a:xfrm>
                  <a:off x="1541520" y="4075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Línea 15"/>
                <p:cNvSpPr/>
                <p:nvPr/>
              </p:nvSpPr>
              <p:spPr>
                <a:xfrm>
                  <a:off x="919080" y="4057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Línea 46"/>
                <p:cNvSpPr/>
                <p:nvPr/>
              </p:nvSpPr>
              <p:spPr>
                <a:xfrm>
                  <a:off x="1498680" y="388008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75" name="Grupo 170"/>
                <p:cNvGrpSpPr/>
                <p:nvPr/>
              </p:nvGrpSpPr>
              <p:grpSpPr>
                <a:xfrm>
                  <a:off x="331920" y="2286000"/>
                  <a:ext cx="2739960" cy="2626560"/>
                  <a:chOff x="331920" y="2286000"/>
                  <a:chExt cx="2739960" cy="2626560"/>
                </a:xfrm>
              </p:grpSpPr>
              <p:sp>
                <p:nvSpPr>
                  <p:cNvPr id="676" name="Rectángulo 40"/>
                  <p:cNvSpPr/>
                  <p:nvPr/>
                </p:nvSpPr>
                <p:spPr>
                  <a:xfrm>
                    <a:off x="2498400" y="3294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7" name="Rectángulo 32"/>
                  <p:cNvSpPr/>
                  <p:nvPr/>
                </p:nvSpPr>
                <p:spPr>
                  <a:xfrm>
                    <a:off x="1303200" y="3294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8" name="Rectángulo 38"/>
                  <p:cNvSpPr/>
                  <p:nvPr/>
                </p:nvSpPr>
                <p:spPr>
                  <a:xfrm>
                    <a:off x="1290600" y="2968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9" name="Línea 34"/>
                  <p:cNvSpPr/>
                  <p:nvPr/>
                </p:nvSpPr>
                <p:spPr>
                  <a:xfrm>
                    <a:off x="1541520" y="3422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0" name="Línea 35"/>
                  <p:cNvSpPr/>
                  <p:nvPr/>
                </p:nvSpPr>
                <p:spPr>
                  <a:xfrm>
                    <a:off x="1243080" y="3452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1" name="Línea 36"/>
                  <p:cNvSpPr/>
                  <p:nvPr/>
                </p:nvSpPr>
                <p:spPr>
                  <a:xfrm>
                    <a:off x="1428840" y="3245040"/>
                    <a:ext cx="144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2" name="Línea 37"/>
                  <p:cNvSpPr/>
                  <p:nvPr/>
                </p:nvSpPr>
                <p:spPr>
                  <a:xfrm>
                    <a:off x="1484280" y="3243240"/>
                    <a:ext cx="0" cy="122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3" name="Rectángulo 162"/>
                  <p:cNvSpPr/>
                  <p:nvPr/>
                </p:nvSpPr>
                <p:spPr>
                  <a:xfrm>
                    <a:off x="1698840" y="3294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Línea 165"/>
                  <p:cNvSpPr/>
                  <p:nvPr/>
                </p:nvSpPr>
                <p:spPr>
                  <a:xfrm>
                    <a:off x="2370240" y="3436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85" name="Grupo 169"/>
                  <p:cNvGrpSpPr/>
                  <p:nvPr/>
                </p:nvGrpSpPr>
                <p:grpSpPr>
                  <a:xfrm>
                    <a:off x="331920" y="2286000"/>
                    <a:ext cx="2739960" cy="2626560"/>
                    <a:chOff x="331920" y="2286000"/>
                    <a:chExt cx="2739960" cy="2626560"/>
                  </a:xfrm>
                </p:grpSpPr>
                <p:sp>
                  <p:nvSpPr>
                    <p:cNvPr id="686" name="Rectángulo 29"/>
                    <p:cNvSpPr/>
                    <p:nvPr/>
                  </p:nvSpPr>
                  <p:spPr>
                    <a:xfrm>
                      <a:off x="1306440" y="228600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7" name="Rectángulo 24"/>
                    <p:cNvSpPr/>
                    <p:nvPr/>
                  </p:nvSpPr>
                  <p:spPr>
                    <a:xfrm>
                      <a:off x="1609920" y="2639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8" name="Línea 30"/>
                    <p:cNvSpPr/>
                    <p:nvPr/>
                  </p:nvSpPr>
                  <p:spPr>
                    <a:xfrm>
                      <a:off x="2284560" y="2813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9" name="Rectángulo 31"/>
                    <p:cNvSpPr/>
                    <p:nvPr/>
                  </p:nvSpPr>
                  <p:spPr>
                    <a:xfrm>
                      <a:off x="2355480" y="2644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0" name="Línea 27"/>
                    <p:cNvSpPr/>
                    <p:nvPr/>
                  </p:nvSpPr>
                  <p:spPr>
                    <a:xfrm>
                      <a:off x="1427400" y="2575080"/>
                      <a:ext cx="1440" cy="101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Línea 28"/>
                    <p:cNvSpPr/>
                    <p:nvPr/>
                  </p:nvSpPr>
                  <p:spPr>
                    <a:xfrm>
                      <a:off x="1484280" y="2573280"/>
                      <a:ext cx="0" cy="122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Rectángulo 23"/>
                    <p:cNvSpPr/>
                    <p:nvPr/>
                  </p:nvSpPr>
                  <p:spPr>
                    <a:xfrm>
                      <a:off x="1298520" y="2643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93" name="Grupo 168"/>
                    <p:cNvGrpSpPr/>
                    <p:nvPr/>
                  </p:nvGrpSpPr>
                  <p:grpSpPr>
                    <a:xfrm>
                      <a:off x="331920" y="2311560"/>
                      <a:ext cx="2739960" cy="2601000"/>
                      <a:chOff x="331920" y="2311560"/>
                      <a:chExt cx="2739960" cy="2601000"/>
                    </a:xfrm>
                  </p:grpSpPr>
                  <p:sp>
                    <p:nvSpPr>
                      <p:cNvPr id="694" name="Rectángulo 21"/>
                      <p:cNvSpPr/>
                      <p:nvPr/>
                    </p:nvSpPr>
                    <p:spPr>
                      <a:xfrm>
                        <a:off x="1011240" y="327204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5" name="Rectángulo 5"/>
                      <p:cNvSpPr/>
                      <p:nvPr/>
                    </p:nvSpPr>
                    <p:spPr>
                      <a:xfrm>
                        <a:off x="331920" y="32828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6" name="Rectángulo 2"/>
                      <p:cNvSpPr/>
                      <p:nvPr/>
                    </p:nvSpPr>
                    <p:spPr>
                      <a:xfrm>
                        <a:off x="657360" y="32688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7" name="Línea 8"/>
                      <p:cNvSpPr/>
                      <p:nvPr/>
                    </p:nvSpPr>
                    <p:spPr>
                      <a:xfrm>
                        <a:off x="941400" y="342252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8" name="Línea 9"/>
                      <p:cNvSpPr/>
                      <p:nvPr/>
                    </p:nvSpPr>
                    <p:spPr>
                      <a:xfrm>
                        <a:off x="604800" y="3467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699" name="Grupo 167"/>
                      <p:cNvGrpSpPr/>
                      <p:nvPr/>
                    </p:nvGrpSpPr>
                    <p:grpSpPr>
                      <a:xfrm>
                        <a:off x="333360" y="2311560"/>
                        <a:ext cx="2738520" cy="2601000"/>
                        <a:chOff x="333360" y="2311560"/>
                        <a:chExt cx="2738520" cy="2601000"/>
                      </a:xfrm>
                    </p:grpSpPr>
                    <p:sp>
                      <p:nvSpPr>
                        <p:cNvPr id="700" name="Rectángulo 108"/>
                        <p:cNvSpPr/>
                        <p:nvPr/>
                      </p:nvSpPr>
                      <p:spPr>
                        <a:xfrm>
                          <a:off x="1050840" y="4572000"/>
                          <a:ext cx="202104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1" name="Rectángulo 4"/>
                        <p:cNvSpPr/>
                        <p:nvPr/>
                      </p:nvSpPr>
                      <p:spPr>
                        <a:xfrm>
                          <a:off x="974880" y="263988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2" name="Rectángulo 3"/>
                        <p:cNvSpPr/>
                        <p:nvPr/>
                      </p:nvSpPr>
                      <p:spPr>
                        <a:xfrm>
                          <a:off x="655560" y="266688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3" name="Rectángulo 11"/>
                        <p:cNvSpPr/>
                        <p:nvPr/>
                      </p:nvSpPr>
                      <p:spPr>
                        <a:xfrm>
                          <a:off x="666720" y="2311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4" name="Rectángulo 19"/>
                        <p:cNvSpPr/>
                        <p:nvPr/>
                      </p:nvSpPr>
                      <p:spPr>
                        <a:xfrm>
                          <a:off x="333360" y="264492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5" name="Línea 20"/>
                        <p:cNvSpPr/>
                        <p:nvPr/>
                      </p:nvSpPr>
                      <p:spPr>
                        <a:xfrm>
                          <a:off x="547920" y="278136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6" name="Línea 6"/>
                        <p:cNvSpPr/>
                        <p:nvPr/>
                      </p:nvSpPr>
                      <p:spPr>
                        <a:xfrm>
                          <a:off x="804960" y="2571840"/>
                          <a:ext cx="0" cy="141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7" name="Línea 10"/>
                        <p:cNvSpPr/>
                        <p:nvPr/>
                      </p:nvSpPr>
                      <p:spPr>
                        <a:xfrm>
                          <a:off x="900360" y="27846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8" name="Línea 26"/>
                        <p:cNvSpPr/>
                        <p:nvPr/>
                      </p:nvSpPr>
                      <p:spPr>
                        <a:xfrm>
                          <a:off x="1257480" y="279720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09" name="Línea 159"/>
                      <p:cNvSpPr/>
                      <p:nvPr/>
                    </p:nvSpPr>
                    <p:spPr>
                      <a:xfrm>
                        <a:off x="835200" y="2933640"/>
                        <a:ext cx="0" cy="358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0" name="Línea 160"/>
                      <p:cNvSpPr/>
                      <p:nvPr/>
                    </p:nvSpPr>
                    <p:spPr>
                      <a:xfrm>
                        <a:off x="835200" y="35830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1" name="Línea 25"/>
                    <p:cNvSpPr/>
                    <p:nvPr/>
                  </p:nvSpPr>
                  <p:spPr>
                    <a:xfrm>
                      <a:off x="1541520" y="2805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12" name="Línea 44"/>
                <p:cNvSpPr/>
                <p:nvPr/>
              </p:nvSpPr>
              <p:spPr>
                <a:xfrm>
                  <a:off x="1243080" y="4086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3" name="Línea 175"/>
                <p:cNvSpPr/>
                <p:nvPr/>
              </p:nvSpPr>
              <p:spPr>
                <a:xfrm>
                  <a:off x="1447920" y="386712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14" name="134 Grupo"/>
          <p:cNvGrpSpPr/>
          <p:nvPr/>
        </p:nvGrpSpPr>
        <p:grpSpPr>
          <a:xfrm>
            <a:off x="4913280" y="2708280"/>
            <a:ext cx="2726280" cy="1727280"/>
            <a:chOff x="4913280" y="2708280"/>
            <a:chExt cx="2726280" cy="1727280"/>
          </a:xfrm>
        </p:grpSpPr>
        <p:sp>
          <p:nvSpPr>
            <p:cNvPr id="715" name="Línea 58"/>
            <p:cNvSpPr/>
            <p:nvPr/>
          </p:nvSpPr>
          <p:spPr>
            <a:xfrm>
              <a:off x="6354720" y="2708280"/>
              <a:ext cx="0" cy="141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Línea 66"/>
            <p:cNvSpPr/>
            <p:nvPr/>
          </p:nvSpPr>
          <p:spPr>
            <a:xfrm>
              <a:off x="6353280" y="4295880"/>
              <a:ext cx="0" cy="139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Línea 67"/>
            <p:cNvSpPr/>
            <p:nvPr/>
          </p:nvSpPr>
          <p:spPr>
            <a:xfrm>
              <a:off x="6469200" y="4194360"/>
              <a:ext cx="122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Línea 70"/>
            <p:cNvSpPr/>
            <p:nvPr/>
          </p:nvSpPr>
          <p:spPr>
            <a:xfrm>
              <a:off x="6130800" y="419112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Línea 72"/>
            <p:cNvSpPr/>
            <p:nvPr/>
          </p:nvSpPr>
          <p:spPr>
            <a:xfrm>
              <a:off x="6124680" y="2917800"/>
              <a:ext cx="120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0" name="Grupo 155"/>
            <p:cNvGrpSpPr/>
            <p:nvPr/>
          </p:nvGrpSpPr>
          <p:grpSpPr>
            <a:xfrm>
              <a:off x="4913280" y="2786040"/>
              <a:ext cx="2726280" cy="1618200"/>
              <a:chOff x="4913280" y="2786040"/>
              <a:chExt cx="2726280" cy="1618200"/>
            </a:xfrm>
          </p:grpSpPr>
          <p:grpSp>
            <p:nvGrpSpPr>
              <p:cNvPr id="721" name="Grupo 153"/>
              <p:cNvGrpSpPr/>
              <p:nvPr/>
            </p:nvGrpSpPr>
            <p:grpSpPr>
              <a:xfrm>
                <a:off x="4913280" y="2786040"/>
                <a:ext cx="2726280" cy="1618200"/>
                <a:chOff x="4913280" y="2786040"/>
                <a:chExt cx="2726280" cy="1618200"/>
              </a:xfrm>
            </p:grpSpPr>
            <p:grpSp>
              <p:nvGrpSpPr>
                <p:cNvPr id="722" name="Grupo 150"/>
                <p:cNvGrpSpPr/>
                <p:nvPr/>
              </p:nvGrpSpPr>
              <p:grpSpPr>
                <a:xfrm>
                  <a:off x="4913280" y="2786040"/>
                  <a:ext cx="2726280" cy="1618200"/>
                  <a:chOff x="4913280" y="2786040"/>
                  <a:chExt cx="2726280" cy="1618200"/>
                </a:xfrm>
              </p:grpSpPr>
              <p:grpSp>
                <p:nvGrpSpPr>
                  <p:cNvPr id="723" name="Grupo 141"/>
                  <p:cNvGrpSpPr/>
                  <p:nvPr/>
                </p:nvGrpSpPr>
                <p:grpSpPr>
                  <a:xfrm>
                    <a:off x="4913280" y="2786040"/>
                    <a:ext cx="2726280" cy="1618200"/>
                    <a:chOff x="4913280" y="2786040"/>
                    <a:chExt cx="2726280" cy="1618200"/>
                  </a:xfrm>
                </p:grpSpPr>
                <p:grpSp>
                  <p:nvGrpSpPr>
                    <p:cNvPr id="724" name="Grupo 140"/>
                    <p:cNvGrpSpPr/>
                    <p:nvPr/>
                  </p:nvGrpSpPr>
                  <p:grpSpPr>
                    <a:xfrm>
                      <a:off x="4913280" y="2786040"/>
                      <a:ext cx="2726280" cy="1618200"/>
                      <a:chOff x="4913280" y="2786040"/>
                      <a:chExt cx="2726280" cy="1618200"/>
                    </a:xfrm>
                  </p:grpSpPr>
                  <p:grpSp>
                    <p:nvGrpSpPr>
                      <p:cNvPr id="725" name="Grupo 139"/>
                      <p:cNvGrpSpPr/>
                      <p:nvPr/>
                    </p:nvGrpSpPr>
                    <p:grpSpPr>
                      <a:xfrm>
                        <a:off x="4913280" y="2786040"/>
                        <a:ext cx="2726280" cy="1618200"/>
                        <a:chOff x="4913280" y="2786040"/>
                        <a:chExt cx="2726280" cy="1618200"/>
                      </a:xfrm>
                    </p:grpSpPr>
                    <p:sp>
                      <p:nvSpPr>
                        <p:cNvPr id="726" name="Rectángulo 55"/>
                        <p:cNvSpPr/>
                        <p:nvPr/>
                      </p:nvSpPr>
                      <p:spPr>
                        <a:xfrm>
                          <a:off x="5183280" y="27936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27" name="Rectángulo 57"/>
                        <p:cNvSpPr/>
                        <p:nvPr/>
                      </p:nvSpPr>
                      <p:spPr>
                        <a:xfrm>
                          <a:off x="4913280" y="33573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28" name="Rectángulo 84"/>
                        <p:cNvSpPr/>
                        <p:nvPr/>
                      </p:nvSpPr>
                      <p:spPr>
                        <a:xfrm>
                          <a:off x="5891040" y="338580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29" name="Rectángulo 85"/>
                        <p:cNvSpPr/>
                        <p:nvPr/>
                      </p:nvSpPr>
                      <p:spPr>
                        <a:xfrm>
                          <a:off x="6300720" y="3385800"/>
                          <a:ext cx="8683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(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)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n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0" name="Rectángulo 90"/>
                        <p:cNvSpPr/>
                        <p:nvPr/>
                      </p:nvSpPr>
                      <p:spPr>
                        <a:xfrm>
                          <a:off x="5867280" y="3047760"/>
                          <a:ext cx="3160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1" name="Rectángulo 92"/>
                        <p:cNvSpPr/>
                        <p:nvPr/>
                      </p:nvSpPr>
                      <p:spPr>
                        <a:xfrm>
                          <a:off x="7100640" y="3385800"/>
                          <a:ext cx="5389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2" name="Rectángulo 103"/>
                        <p:cNvSpPr/>
                        <p:nvPr/>
                      </p:nvSpPr>
                      <p:spPr>
                        <a:xfrm>
                          <a:off x="4916160" y="400968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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3" name="Rectángulo 106"/>
                        <p:cNvSpPr/>
                        <p:nvPr/>
                      </p:nvSpPr>
                      <p:spPr>
                        <a:xfrm>
                          <a:off x="5435640" y="4033440"/>
                          <a:ext cx="43164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4" name="Rectángulo 54"/>
                        <p:cNvSpPr/>
                        <p:nvPr/>
                      </p:nvSpPr>
                      <p:spPr>
                        <a:xfrm>
                          <a:off x="5148360" y="3362040"/>
                          <a:ext cx="33012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5" name="Línea 59"/>
                        <p:cNvSpPr/>
                        <p:nvPr/>
                      </p:nvSpPr>
                      <p:spPr>
                        <a:xfrm>
                          <a:off x="5292720" y="3074760"/>
                          <a:ext cx="0" cy="36936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6" name="Línea 68"/>
                        <p:cNvSpPr/>
                        <p:nvPr/>
                      </p:nvSpPr>
                      <p:spPr>
                        <a:xfrm>
                          <a:off x="5292720" y="3649320"/>
                          <a:ext cx="0" cy="369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7" name="Línea 87"/>
                        <p:cNvSpPr/>
                        <p:nvPr/>
                      </p:nvSpPr>
                      <p:spPr>
                        <a:xfrm>
                          <a:off x="7020000" y="360180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8" name="Línea 86"/>
                        <p:cNvSpPr/>
                        <p:nvPr/>
                      </p:nvSpPr>
                      <p:spPr>
                        <a:xfrm>
                          <a:off x="6156360" y="3578040"/>
                          <a:ext cx="1220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39" name="Rectángulo 73"/>
                        <p:cNvSpPr/>
                        <p:nvPr/>
                      </p:nvSpPr>
                      <p:spPr>
                        <a:xfrm>
                          <a:off x="5508720" y="3362040"/>
                          <a:ext cx="2808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40" name="Rectángulo 105"/>
                        <p:cNvSpPr/>
                        <p:nvPr/>
                      </p:nvSpPr>
                      <p:spPr>
                        <a:xfrm>
                          <a:off x="5435640" y="2786040"/>
                          <a:ext cx="438120" cy="370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r>
                            <a:rPr b="1" lang="en-US" sz="16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3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41" name="Rectángulo 102"/>
                      <p:cNvSpPr/>
                      <p:nvPr/>
                    </p:nvSpPr>
                    <p:spPr>
                      <a:xfrm>
                        <a:off x="5364000" y="3001680"/>
                        <a:ext cx="301680" cy="36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2" name="Rectángulo 104"/>
                      <p:cNvSpPr/>
                      <p:nvPr/>
                    </p:nvSpPr>
                    <p:spPr>
                      <a:xfrm>
                        <a:off x="5294160" y="3601800"/>
                        <a:ext cx="29196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3" name="Línea 61"/>
                      <p:cNvSpPr/>
                      <p:nvPr/>
                    </p:nvSpPr>
                    <p:spPr>
                      <a:xfrm>
                        <a:off x="579600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4" name="Línea 88"/>
                      <p:cNvSpPr/>
                      <p:nvPr/>
                    </p:nvSpPr>
                    <p:spPr>
                      <a:xfrm>
                        <a:off x="6012000" y="3290760"/>
                        <a:ext cx="144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5" name="Línea 89"/>
                      <p:cNvSpPr/>
                      <p:nvPr/>
                    </p:nvSpPr>
                    <p:spPr>
                      <a:xfrm>
                        <a:off x="6067440" y="3301920"/>
                        <a:ext cx="0" cy="121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6" name="Línea 60"/>
                      <p:cNvSpPr/>
                      <p:nvPr/>
                    </p:nvSpPr>
                    <p:spPr>
                      <a:xfrm>
                        <a:off x="5435640" y="35780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47" name="Rectángulo 64"/>
                    <p:cNvSpPr/>
                    <p:nvPr/>
                  </p:nvSpPr>
                  <p:spPr>
                    <a:xfrm>
                      <a:off x="5170320" y="40417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48" name="Rectángulo 149"/>
                  <p:cNvSpPr/>
                  <p:nvPr/>
                </p:nvSpPr>
                <p:spPr>
                  <a:xfrm>
                    <a:off x="4932360" y="4017960"/>
                    <a:ext cx="287280" cy="36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49" name="Rectángulo 152"/>
                <p:cNvSpPr/>
                <p:nvPr/>
              </p:nvSpPr>
              <p:spPr>
                <a:xfrm>
                  <a:off x="5364000" y="3657600"/>
                  <a:ext cx="216000" cy="28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0" name="Rectángulo 154"/>
              <p:cNvSpPr/>
              <p:nvPr/>
            </p:nvSpPr>
            <p:spPr>
              <a:xfrm>
                <a:off x="5364000" y="3154320"/>
                <a:ext cx="28764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1" name="Cuadro de texto 182"/>
            <p:cNvSpPr/>
            <p:nvPr/>
          </p:nvSpPr>
          <p:spPr>
            <a:xfrm>
              <a:off x="5143320" y="2786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Cuadro de texto 183"/>
            <p:cNvSpPr/>
            <p:nvPr/>
          </p:nvSpPr>
          <p:spPr>
            <a:xfrm>
              <a:off x="5148000" y="4010040"/>
              <a:ext cx="108108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C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 Black"/>
                  <a:ea typeface="Arial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55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Cuadro de texto 15"/>
          <p:cNvSpPr/>
          <p:nvPr/>
        </p:nvSpPr>
        <p:spPr>
          <a:xfrm>
            <a:off x="4643280" y="2286000"/>
            <a:ext cx="1625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Cuadro de texto 14"/>
          <p:cNvSpPr/>
          <p:nvPr/>
        </p:nvSpPr>
        <p:spPr>
          <a:xfrm>
            <a:off x="3429000" y="6000840"/>
            <a:ext cx="172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60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Forma libre 16"/>
          <p:cNvSpPr/>
          <p:nvPr/>
        </p:nvSpPr>
        <p:spPr>
          <a:xfrm flipH="1" rot="10518000">
            <a:off x="3493080" y="4368960"/>
            <a:ext cx="353880" cy="1584000"/>
          </a:xfrm>
          <a:custGeom>
            <a:avLst/>
            <a:gdLst>
              <a:gd name="textAreaLeft" fmla="*/ -360 w 353880"/>
              <a:gd name="textAreaRight" fmla="*/ 353880 w 3538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orma libre 16"/>
          <p:cNvSpPr/>
          <p:nvPr/>
        </p:nvSpPr>
        <p:spPr>
          <a:xfrm flipH="1">
            <a:off x="4500000" y="2786040"/>
            <a:ext cx="500040" cy="1584360"/>
          </a:xfrm>
          <a:custGeom>
            <a:avLst/>
            <a:gdLst>
              <a:gd name="textAreaLeft" fmla="*/ -360 w 500040"/>
              <a:gd name="textAreaRight" fmla="*/ 500040 w 5000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3 Rectángulo"/>
          <p:cNvSpPr/>
          <p:nvPr/>
        </p:nvSpPr>
        <p:spPr>
          <a:xfrm>
            <a:off x="285840" y="100008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 y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Cuadro de texto 5"/>
          <p:cNvSpPr/>
          <p:nvPr/>
        </p:nvSpPr>
        <p:spPr>
          <a:xfrm>
            <a:off x="214200" y="363600"/>
            <a:ext cx="8856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Cuadro de texto 6"/>
          <p:cNvSpPr/>
          <p:nvPr/>
        </p:nvSpPr>
        <p:spPr>
          <a:xfrm>
            <a:off x="755640" y="200016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6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0" name="Cuadro de texto 8"/>
          <p:cNvSpPr/>
          <p:nvPr/>
        </p:nvSpPr>
        <p:spPr>
          <a:xfrm>
            <a:off x="857160" y="1101600"/>
            <a:ext cx="7572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Existirían proteínas de membrana que los fijan y transport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Cuadro de texto 10"/>
          <p:cNvSpPr/>
          <p:nvPr/>
        </p:nvSpPr>
        <p:spPr>
          <a:xfrm>
            <a:off x="230040" y="32860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7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7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 Rounded MT Bold"/>
              </a:rPr>
              <a:t>Absorción de los productos de la digestión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8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8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8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upo 39"/>
          <p:cNvGrpSpPr/>
          <p:nvPr/>
        </p:nvGrpSpPr>
        <p:grpSpPr>
          <a:xfrm>
            <a:off x="2411280" y="2567160"/>
            <a:ext cx="2951280" cy="862560"/>
            <a:chOff x="2411280" y="2567160"/>
            <a:chExt cx="2951280" cy="862560"/>
          </a:xfrm>
        </p:grpSpPr>
        <p:sp>
          <p:nvSpPr>
            <p:cNvPr id="791" name="Cuadro de texto 37"/>
            <p:cNvSpPr/>
            <p:nvPr/>
          </p:nvSpPr>
          <p:spPr>
            <a:xfrm>
              <a:off x="2411280" y="2567160"/>
              <a:ext cx="29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4" name="Grupo 64"/>
          <p:cNvGrpSpPr/>
          <p:nvPr/>
        </p:nvGrpSpPr>
        <p:grpSpPr>
          <a:xfrm>
            <a:off x="214200" y="4857840"/>
            <a:ext cx="8244000" cy="1653840"/>
            <a:chOff x="214200" y="4857840"/>
            <a:chExt cx="8244000" cy="1653840"/>
          </a:xfrm>
        </p:grpSpPr>
        <p:sp>
          <p:nvSpPr>
            <p:cNvPr id="795" name="Cuadro de texto 40"/>
            <p:cNvSpPr/>
            <p:nvPr/>
          </p:nvSpPr>
          <p:spPr>
            <a:xfrm>
              <a:off x="214200" y="485784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Línea 41"/>
            <p:cNvSpPr/>
            <p:nvPr/>
          </p:nvSpPr>
          <p:spPr>
            <a:xfrm flipH="1">
              <a:off x="1689120" y="514656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Línea 43"/>
            <p:cNvSpPr/>
            <p:nvPr/>
          </p:nvSpPr>
          <p:spPr>
            <a:xfrm>
              <a:off x="1149120" y="5360760"/>
              <a:ext cx="0" cy="72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Cuadro de texto 44"/>
            <p:cNvSpPr/>
            <p:nvPr/>
          </p:nvSpPr>
          <p:spPr>
            <a:xfrm>
              <a:off x="501480" y="614340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Línea 49"/>
          <p:cNvSpPr/>
          <p:nvPr/>
        </p:nvSpPr>
        <p:spPr>
          <a:xfrm>
            <a:off x="2857680" y="285768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805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6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807" name="Elipse 60"/>
              <p:cNvSpPr/>
              <p:nvPr/>
            </p:nvSpPr>
            <p:spPr>
              <a:xfrm>
                <a:off x="621504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G                 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Línea 50"/>
              <p:cNvSpPr/>
              <p:nvPr/>
            </p:nvSpPr>
            <p:spPr>
              <a:xfrm flipH="1">
                <a:off x="3352680" y="4219560"/>
                <a:ext cx="6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14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44 CuadroTexto"/>
          <p:cNvSpPr/>
          <p:nvPr/>
        </p:nvSpPr>
        <p:spPr>
          <a:xfrm>
            <a:off x="7286760" y="35719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………………………………………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rc 45"/>
          <p:cNvSpPr/>
          <p:nvPr/>
        </p:nvSpPr>
        <p:spPr>
          <a:xfrm rot="5400000">
            <a:off x="3329640" y="3771000"/>
            <a:ext cx="539640" cy="360360"/>
          </a:xfrm>
          <a:custGeom>
            <a:avLst/>
            <a:gdLst>
              <a:gd name="textAreaLeft" fmla="*/ 0 w 539640"/>
              <a:gd name="textAreaRight" fmla="*/ 540000 w 53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7" name="Group 46"/>
          <p:cNvGrpSpPr/>
          <p:nvPr/>
        </p:nvGrpSpPr>
        <p:grpSpPr>
          <a:xfrm>
            <a:off x="2843280" y="3357720"/>
            <a:ext cx="502920" cy="718920"/>
            <a:chOff x="2843280" y="3357720"/>
            <a:chExt cx="502920" cy="718920"/>
          </a:xfrm>
        </p:grpSpPr>
        <p:sp>
          <p:nvSpPr>
            <p:cNvPr id="818" name="Arc 47"/>
            <p:cNvSpPr/>
            <p:nvPr/>
          </p:nvSpPr>
          <p:spPr>
            <a:xfrm rot="17181600">
              <a:off x="2829600" y="3558240"/>
              <a:ext cx="536400" cy="3603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</a:path>
                <a:path stroke="0" w="21470" h="21600">
                  <a:moveTo>
                    <a:pt x="-1" y="0"/>
                  </a:moveTo>
                  <a:cubicBezTo>
                    <a:pt x="11012" y="0"/>
                    <a:pt x="20261" y="8284"/>
                    <a:pt x="21469" y="1923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Línea 49"/>
            <p:cNvSpPr/>
            <p:nvPr/>
          </p:nvSpPr>
          <p:spPr>
            <a:xfrm>
              <a:off x="2843280" y="335772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1 CuadroTexto"/>
          <p:cNvSpPr/>
          <p:nvPr/>
        </p:nvSpPr>
        <p:spPr>
          <a:xfrm>
            <a:off x="3202920" y="6206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MACRONUTRI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2 CuadroTexto"/>
          <p:cNvSpPr/>
          <p:nvPr/>
        </p:nvSpPr>
        <p:spPr>
          <a:xfrm>
            <a:off x="532440" y="9810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LIP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428760" y="141300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Al igual que los carbohidratos, los lípidos se componen de carbono, hidrógeno y oxígeno, pero en este caso, la cantidad de hidrógeno es superior a la cantidad de átomos de oxígeno, confiriendo a estos compuestos propiedades químicas distint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- Los lípidos se clasifican en dos grupos: </a:t>
            </a: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saponificables</a:t>
            </a: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 y </a:t>
            </a:r>
            <a:r>
              <a:rPr b="1" i="1" lang="es-ES" sz="2000" spc="-1" strike="noStrike">
                <a:solidFill>
                  <a:srgbClr val="c0504d"/>
                </a:solidFill>
                <a:latin typeface="Calibri"/>
              </a:rPr>
              <a:t>no-saponificables</a:t>
            </a:r>
            <a:r>
              <a:rPr b="1" lang="es-ES" sz="20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4 CuadroTexto"/>
          <p:cNvSpPr/>
          <p:nvPr/>
        </p:nvSpPr>
        <p:spPr>
          <a:xfrm>
            <a:off x="468360" y="328464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5 Abrir llave"/>
          <p:cNvSpPr/>
          <p:nvPr/>
        </p:nvSpPr>
        <p:spPr>
          <a:xfrm>
            <a:off x="2195640" y="3073320"/>
            <a:ext cx="196560" cy="860400"/>
          </a:xfrm>
          <a:custGeom>
            <a:avLst/>
            <a:gdLst>
              <a:gd name="textAreaLeft" fmla="*/ 125640 w 196560"/>
              <a:gd name="textAreaRight" fmla="*/ 196920 w 196560"/>
              <a:gd name="textAreaTop" fmla="*/ 5040 h 860400"/>
              <a:gd name="textAreaBottom" fmla="*/ 855360 h 86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5400" y="10800"/>
                  <a:pt x="0" y="10800"/>
                </a:cubicBezTo>
                <a:cubicBezTo>
                  <a:pt x="54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6 CuadroTexto"/>
          <p:cNvSpPr/>
          <p:nvPr/>
        </p:nvSpPr>
        <p:spPr>
          <a:xfrm>
            <a:off x="2340000" y="301788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Simple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: ácidos grasos libres, grasas neutras y cer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Compuesto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: fosfolípidos, glucolípidos (ej. triglicéridos), lipoproteín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sp3191"/>
          <p:cNvPicPr/>
          <p:nvPr/>
        </p:nvPicPr>
        <p:blipFill>
          <a:blip r:embed="rId1"/>
          <a:stretch/>
        </p:blipFill>
        <p:spPr>
          <a:xfrm>
            <a:off x="971640" y="4138560"/>
            <a:ext cx="1785960" cy="2530440"/>
          </a:xfrm>
          <a:prstGeom prst="rect">
            <a:avLst/>
          </a:prstGeom>
          <a:ln w="0">
            <a:noFill/>
          </a:ln>
        </p:spPr>
      </p:pic>
      <p:sp>
        <p:nvSpPr>
          <p:cNvPr id="549" name="10 CuadroTexto"/>
          <p:cNvSpPr/>
          <p:nvPr/>
        </p:nvSpPr>
        <p:spPr>
          <a:xfrm>
            <a:off x="2916360" y="610092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donde: R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á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idos grasos saturados y/o insatu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3059280" y="51577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780000" y="441180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Principal constituyente de las grasas de los alimentos de origen ani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Group 20"/>
          <p:cNvGrpSpPr/>
          <p:nvPr/>
        </p:nvGrpSpPr>
        <p:grpSpPr>
          <a:xfrm>
            <a:off x="5867280" y="3933720"/>
            <a:ext cx="2760840" cy="2708280"/>
            <a:chOff x="5867280" y="3933720"/>
            <a:chExt cx="2760840" cy="2708280"/>
          </a:xfrm>
        </p:grpSpPr>
        <p:pic>
          <p:nvPicPr>
            <p:cNvPr id="553" name="Picture 18" descr="grasas animales"/>
            <p:cNvPicPr/>
            <p:nvPr/>
          </p:nvPicPr>
          <p:blipFill>
            <a:blip r:embed="rId2"/>
            <a:srcRect l="21571" t="10843" r="0" b="0"/>
            <a:stretch/>
          </p:blipFill>
          <p:spPr>
            <a:xfrm>
              <a:off x="5940360" y="3933720"/>
              <a:ext cx="268776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Rectangle 19"/>
            <p:cNvSpPr/>
            <p:nvPr/>
          </p:nvSpPr>
          <p:spPr>
            <a:xfrm>
              <a:off x="5867280" y="3933720"/>
              <a:ext cx="1009800" cy="14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0"/>
          <p:cNvSpPr/>
          <p:nvPr/>
        </p:nvSpPr>
        <p:spPr>
          <a:xfrm>
            <a:off x="96840" y="25704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Biosíntesis de Triglicér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Picture 4" descr="Monoacylglycerol pathway of triacylglycerol biosynthesis"/>
          <p:cNvPicPr/>
          <p:nvPr/>
        </p:nvPicPr>
        <p:blipFill>
          <a:blip r:embed="rId1"/>
          <a:stretch/>
        </p:blipFill>
        <p:spPr>
          <a:xfrm>
            <a:off x="142920" y="3044880"/>
            <a:ext cx="8532720" cy="3479760"/>
          </a:xfrm>
          <a:prstGeom prst="rect">
            <a:avLst/>
          </a:prstGeom>
          <a:ln w="0">
            <a:noFill/>
          </a:ln>
        </p:spPr>
      </p:pic>
      <p:grpSp>
        <p:nvGrpSpPr>
          <p:cNvPr id="822" name="Group 10"/>
          <p:cNvGrpSpPr/>
          <p:nvPr/>
        </p:nvGrpSpPr>
        <p:grpSpPr>
          <a:xfrm>
            <a:off x="1908000" y="3773520"/>
            <a:ext cx="1857600" cy="772560"/>
            <a:chOff x="1908000" y="3773520"/>
            <a:chExt cx="1857600" cy="772560"/>
          </a:xfrm>
        </p:grpSpPr>
        <p:sp>
          <p:nvSpPr>
            <p:cNvPr id="823" name="Cuadro de texto 10"/>
            <p:cNvSpPr/>
            <p:nvPr/>
          </p:nvSpPr>
          <p:spPr>
            <a:xfrm>
              <a:off x="1908000" y="3773520"/>
              <a:ext cx="185760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rc 8"/>
            <p:cNvSpPr/>
            <p:nvPr/>
          </p:nvSpPr>
          <p:spPr>
            <a:xfrm rot="10800000">
              <a:off x="2844720" y="4114440"/>
              <a:ext cx="432000" cy="4316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Group 11"/>
          <p:cNvGrpSpPr/>
          <p:nvPr/>
        </p:nvGrpSpPr>
        <p:grpSpPr>
          <a:xfrm>
            <a:off x="4946760" y="3825720"/>
            <a:ext cx="1857240" cy="649080"/>
            <a:chOff x="4946760" y="3825720"/>
            <a:chExt cx="1857240" cy="649080"/>
          </a:xfrm>
        </p:grpSpPr>
        <p:sp>
          <p:nvSpPr>
            <p:cNvPr id="826" name="Cuadro de texto 10"/>
            <p:cNvSpPr/>
            <p:nvPr/>
          </p:nvSpPr>
          <p:spPr>
            <a:xfrm>
              <a:off x="4946760" y="3825720"/>
              <a:ext cx="185724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14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4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rc 9"/>
            <p:cNvSpPr/>
            <p:nvPr/>
          </p:nvSpPr>
          <p:spPr>
            <a:xfrm rot="10800000">
              <a:off x="5868720" y="4185720"/>
              <a:ext cx="431640" cy="2890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8" name="Text Box 12"/>
          <p:cNvSpPr/>
          <p:nvPr/>
        </p:nvSpPr>
        <p:spPr>
          <a:xfrm>
            <a:off x="2328120" y="4546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280840" y="4475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  <a:ea typeface="Arial"/>
              </a:rPr>
              <a:t>Acil 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0" name="Group 14"/>
          <p:cNvGrpSpPr/>
          <p:nvPr/>
        </p:nvGrpSpPr>
        <p:grpSpPr>
          <a:xfrm>
            <a:off x="250920" y="1477800"/>
            <a:ext cx="8820000" cy="1160280"/>
            <a:chOff x="250920" y="1477800"/>
            <a:chExt cx="8820000" cy="1160280"/>
          </a:xfrm>
        </p:grpSpPr>
        <p:sp>
          <p:nvSpPr>
            <p:cNvPr id="831" name="Cuadro de texto 4"/>
            <p:cNvSpPr/>
            <p:nvPr/>
          </p:nvSpPr>
          <p:spPr>
            <a:xfrm>
              <a:off x="5938560" y="2269800"/>
              <a:ext cx="176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Cuadro de texto 6"/>
            <p:cNvSpPr/>
            <p:nvPr/>
          </p:nvSpPr>
          <p:spPr>
            <a:xfrm>
              <a:off x="3778200" y="147780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o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Cuadro de texto 8"/>
            <p:cNvSpPr/>
            <p:nvPr/>
          </p:nvSpPr>
          <p:spPr>
            <a:xfrm>
              <a:off x="3706560" y="2269800"/>
              <a:ext cx="2376000" cy="36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imes New Roman"/>
                  <a:ea typeface="Arial"/>
                </a:rPr>
                <a:t>ATP    AMP + PP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Autoforma 9"/>
            <p:cNvSpPr/>
            <p:nvPr/>
          </p:nvSpPr>
          <p:spPr>
            <a:xfrm>
              <a:off x="4087440" y="2053800"/>
              <a:ext cx="709560" cy="287280"/>
            </a:xfrm>
            <a:custGeom>
              <a:avLst/>
              <a:gdLst>
                <a:gd name="textAreaLeft" fmla="*/ 145080 w 709560"/>
                <a:gd name="textAreaRight" fmla="*/ 521640 w 7095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29" hR="21600" stAng="10800000" swAng="5400000"/>
                  <a:lnTo>
                    <a:pt x="11458" y="0"/>
                  </a:lnTo>
                  <a:arcTo wR="8829" hR="21600" stAng="-5400000" swAng="3431669"/>
                  <a:lnTo>
                    <a:pt x="21309" y="16097"/>
                  </a:lnTo>
                  <a:lnTo>
                    <a:pt x="18972" y="21600"/>
                  </a:lnTo>
                  <a:lnTo>
                    <a:pt x="16052" y="16097"/>
                  </a:lnTo>
                  <a:lnTo>
                    <a:pt x="17366" y="16097"/>
                  </a:lnTo>
                  <a:arcTo wR="8829" hR="21600" stAng="-1968331" swAng="-3220368"/>
                  <a:lnTo>
                    <a:pt x="10143" y="241"/>
                  </a:lnTo>
                  <a:arcTo wR="8829" hR="21600" stAng="-5611301" swAng="-5188699"/>
                  <a:close/>
                </a:path>
                <a:path fill="darkenLess" w="21600" h="21600">
                  <a:moveTo>
                    <a:pt x="0" y="21600"/>
                  </a:moveTo>
                  <a:arcTo wR="8829" hR="21600" stAng="10800000" swAng="5400000"/>
                  <a:lnTo>
                    <a:pt x="8829" y="0"/>
                  </a:lnTo>
                  <a:arcTo wR="8829" hR="21600" stAng="-5400000" swAng="211301"/>
                  <a:lnTo>
                    <a:pt x="10143" y="241"/>
                  </a:lnTo>
                  <a:arcTo wR="8829" hR="21600" stAng="-5611301" swAng="-5188699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Cuadro de texto 10"/>
            <p:cNvSpPr/>
            <p:nvPr/>
          </p:nvSpPr>
          <p:spPr>
            <a:xfrm>
              <a:off x="250920" y="1623600"/>
              <a:ext cx="88200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                                                                    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O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C-O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-SH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~S-Co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Elipse 11"/>
            <p:cNvSpPr/>
            <p:nvPr/>
          </p:nvSpPr>
          <p:spPr>
            <a:xfrm rot="19201800">
              <a:off x="1617480" y="166932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Línea 13"/>
            <p:cNvSpPr/>
            <p:nvPr/>
          </p:nvSpPr>
          <p:spPr>
            <a:xfrm>
              <a:off x="3778200" y="2053800"/>
              <a:ext cx="151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Elipse 14"/>
            <p:cNvSpPr/>
            <p:nvPr/>
          </p:nvSpPr>
          <p:spPr>
            <a:xfrm rot="19201800">
              <a:off x="6586200" y="1693080"/>
              <a:ext cx="57600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9" name="Text Box 23"/>
          <p:cNvSpPr/>
          <p:nvPr/>
        </p:nvSpPr>
        <p:spPr>
          <a:xfrm>
            <a:off x="447120" y="102708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Activación de los ácidos gr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24"/>
          <p:cNvSpPr/>
          <p:nvPr/>
        </p:nvSpPr>
        <p:spPr>
          <a:xfrm>
            <a:off x="493560" y="2684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alibri"/>
                <a:ea typeface="Arial"/>
              </a:rPr>
              <a:t>- Re-síntesis de T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23 Grupo"/>
          <p:cNvGrpSpPr/>
          <p:nvPr/>
        </p:nvGrpSpPr>
        <p:grpSpPr>
          <a:xfrm>
            <a:off x="2876400" y="809640"/>
            <a:ext cx="4838760" cy="5977080"/>
            <a:chOff x="2876400" y="809640"/>
            <a:chExt cx="4838760" cy="5977080"/>
          </a:xfrm>
        </p:grpSpPr>
        <p:pic>
          <p:nvPicPr>
            <p:cNvPr id="842" name="Picture 4" descr="phosphatidicacidsynthesis-sp"/>
            <p:cNvPicPr/>
            <p:nvPr/>
          </p:nvPicPr>
          <p:blipFill>
            <a:blip r:embed="rId1"/>
            <a:stretch/>
          </p:blipFill>
          <p:spPr>
            <a:xfrm>
              <a:off x="2876400" y="809640"/>
              <a:ext cx="43005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22 Rectángulo"/>
            <p:cNvSpPr/>
            <p:nvPr/>
          </p:nvSpPr>
          <p:spPr>
            <a:xfrm>
              <a:off x="5214960" y="831600"/>
              <a:ext cx="2500200" cy="42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Group 35"/>
          <p:cNvGrpSpPr/>
          <p:nvPr/>
        </p:nvGrpSpPr>
        <p:grpSpPr>
          <a:xfrm>
            <a:off x="5924520" y="592200"/>
            <a:ext cx="3076560" cy="6122160"/>
            <a:chOff x="5924520" y="592200"/>
            <a:chExt cx="3076560" cy="6122160"/>
          </a:xfrm>
        </p:grpSpPr>
        <p:grpSp>
          <p:nvGrpSpPr>
            <p:cNvPr id="845" name="43 Grupo"/>
            <p:cNvGrpSpPr/>
            <p:nvPr/>
          </p:nvGrpSpPr>
          <p:grpSpPr>
            <a:xfrm>
              <a:off x="5924520" y="592200"/>
              <a:ext cx="3076560" cy="6122160"/>
              <a:chOff x="5924520" y="592200"/>
              <a:chExt cx="3076560" cy="6122160"/>
            </a:xfrm>
          </p:grpSpPr>
          <p:grpSp>
            <p:nvGrpSpPr>
              <p:cNvPr id="846" name="10 Grupo"/>
              <p:cNvGrpSpPr/>
              <p:nvPr/>
            </p:nvGrpSpPr>
            <p:grpSpPr>
              <a:xfrm>
                <a:off x="5924520" y="592200"/>
                <a:ext cx="3076560" cy="6122160"/>
                <a:chOff x="5924520" y="592200"/>
                <a:chExt cx="3076560" cy="6122160"/>
              </a:xfrm>
            </p:grpSpPr>
            <p:grpSp>
              <p:nvGrpSpPr>
                <p:cNvPr id="847" name="Group 10"/>
                <p:cNvGrpSpPr/>
                <p:nvPr/>
              </p:nvGrpSpPr>
              <p:grpSpPr>
                <a:xfrm>
                  <a:off x="5924520" y="592200"/>
                  <a:ext cx="2862360" cy="6122160"/>
                  <a:chOff x="5924520" y="592200"/>
                  <a:chExt cx="2862360" cy="6122160"/>
                </a:xfrm>
              </p:grpSpPr>
              <p:pic>
                <p:nvPicPr>
                  <p:cNvPr id="848" name="Picture 4" descr=""/>
                  <p:cNvPicPr/>
                  <p:nvPr/>
                </p:nvPicPr>
                <p:blipFill>
                  <a:blip r:embed="rId2"/>
                  <a:srcRect l="0" t="0" r="43521" b="0"/>
                  <a:stretch/>
                </p:blipFill>
                <p:spPr>
                  <a:xfrm>
                    <a:off x="6429240" y="592200"/>
                    <a:ext cx="23576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9" name="Text Box 5"/>
                  <p:cNvSpPr/>
                  <p:nvPr/>
                </p:nvSpPr>
                <p:spPr>
                  <a:xfrm>
                    <a:off x="6739560" y="2289240"/>
                    <a:ext cx="107676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. Fosfatidic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fosfat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0" name="Text Box 6"/>
                  <p:cNvSpPr/>
                  <p:nvPr/>
                </p:nvSpPr>
                <p:spPr>
                  <a:xfrm>
                    <a:off x="5924520" y="4556160"/>
                    <a:ext cx="1330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ff"/>
                        </a:solidFill>
                        <a:latin typeface="Calibri"/>
                        <a:ea typeface="Arial"/>
                      </a:rPr>
                      <a:t>Acil transferas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1" name="Text Box 8"/>
                  <p:cNvSpPr/>
                  <p:nvPr/>
                </p:nvSpPr>
                <p:spPr>
                  <a:xfrm>
                    <a:off x="6499080" y="6470640"/>
                    <a:ext cx="1513080" cy="24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Triacilglic</a:t>
                    </a:r>
                    <a:r>
                      <a:rPr b="1" lang="en-US" sz="1600" spc="-1" strike="noStrike">
                        <a:solidFill>
                          <a:srgbClr val="ff0000"/>
                        </a:solidFill>
                        <a:latin typeface="Calibri"/>
                        <a:ea typeface="Arial"/>
                      </a:rPr>
                      <a:t>er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52" name="36 Rectángulo"/>
                <p:cNvSpPr/>
                <p:nvPr/>
              </p:nvSpPr>
              <p:spPr>
                <a:xfrm>
                  <a:off x="8358120" y="2357280"/>
                  <a:ext cx="642960" cy="300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3" name="33 Arco"/>
              <p:cNvSpPr/>
              <p:nvPr/>
            </p:nvSpPr>
            <p:spPr>
              <a:xfrm flipH="1" rot="17668200">
                <a:off x="7975440" y="2328480"/>
                <a:ext cx="623880" cy="500040"/>
              </a:xfrm>
              <a:custGeom>
                <a:avLst/>
                <a:gdLst/>
                <a:ahLst/>
                <a:rect l="l" t="t" r="r" b="b"/>
                <a:pathLst>
                  <a:path stroke="0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  <a:lnTo>
                      <a:pt x="311944" y="250032"/>
                    </a:lnTo>
                    <a:lnTo>
                      <a:pt x="311944" y="0"/>
                    </a:lnTo>
                    <a:close/>
                  </a:path>
                  <a:path fill="none" w="623888" h="500064">
                    <a:moveTo>
                      <a:pt x="311944" y="0"/>
                    </a:moveTo>
                    <a:cubicBezTo>
                      <a:pt x="473526" y="0"/>
                      <a:pt x="608363" y="98898"/>
                      <a:pt x="622664" y="227903"/>
                    </a:cubicBezTo>
                  </a:path>
                </a:pathLst>
              </a:custGeom>
              <a:noFill/>
              <a:ln w="38160">
                <a:solidFill>
                  <a:srgbClr val="be4b4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34 CuadroTexto"/>
              <p:cNvSpPr/>
              <p:nvPr/>
            </p:nvSpPr>
            <p:spPr>
              <a:xfrm>
                <a:off x="8002800" y="2786040"/>
                <a:ext cx="33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Pi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5" name="Cuadro de texto 10"/>
            <p:cNvSpPr/>
            <p:nvPr/>
          </p:nvSpPr>
          <p:spPr>
            <a:xfrm>
              <a:off x="7451640" y="4183200"/>
              <a:ext cx="1513080" cy="69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00" bIns="154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R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1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-CH</a:t>
              </a:r>
              <a:r>
                <a:rPr b="1" lang="es-ES_tradnl" sz="1200" spc="-1" strike="noStrike" baseline="-25000">
                  <a:solidFill>
                    <a:srgbClr val="c00000"/>
                  </a:solidFill>
                  <a:latin typeface="Arial"/>
                  <a:ea typeface="Arial"/>
                </a:rPr>
                <a:t>2</a:t>
              </a: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–CO~S-Co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Acil-CoA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Text Box 10"/>
          <p:cNvSpPr/>
          <p:nvPr/>
        </p:nvSpPr>
        <p:spPr>
          <a:xfrm>
            <a:off x="-9360" y="11592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Otra vía de 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7" name="Group 20"/>
          <p:cNvGrpSpPr/>
          <p:nvPr/>
        </p:nvGrpSpPr>
        <p:grpSpPr>
          <a:xfrm>
            <a:off x="1450440" y="809640"/>
            <a:ext cx="2469240" cy="654120"/>
            <a:chOff x="1450440" y="809640"/>
            <a:chExt cx="2469240" cy="654120"/>
          </a:xfrm>
        </p:grpSpPr>
        <p:sp>
          <p:nvSpPr>
            <p:cNvPr id="858" name="Text Box 11"/>
            <p:cNvSpPr/>
            <p:nvPr/>
          </p:nvSpPr>
          <p:spPr>
            <a:xfrm>
              <a:off x="1450440" y="1064880"/>
              <a:ext cx="61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U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2262240" y="124128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Text Box 13"/>
            <p:cNvSpPr/>
            <p:nvPr/>
          </p:nvSpPr>
          <p:spPr>
            <a:xfrm>
              <a:off x="2754360" y="80964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V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Group 21"/>
          <p:cNvGrpSpPr/>
          <p:nvPr/>
        </p:nvGrpSpPr>
        <p:grpSpPr>
          <a:xfrm>
            <a:off x="1259640" y="2465280"/>
            <a:ext cx="2875680" cy="842040"/>
            <a:chOff x="1259640" y="2465280"/>
            <a:chExt cx="2875680" cy="842040"/>
          </a:xfrm>
        </p:grpSpPr>
        <p:sp>
          <p:nvSpPr>
            <p:cNvPr id="862" name="Text Box 14"/>
            <p:cNvSpPr/>
            <p:nvPr/>
          </p:nvSpPr>
          <p:spPr>
            <a:xfrm>
              <a:off x="1259640" y="270324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Calibri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Line 15"/>
            <p:cNvSpPr/>
            <p:nvPr/>
          </p:nvSpPr>
          <p:spPr>
            <a:xfrm>
              <a:off x="2624040" y="289692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Text Box 16"/>
            <p:cNvSpPr/>
            <p:nvPr/>
          </p:nvSpPr>
          <p:spPr>
            <a:xfrm>
              <a:off x="2973960" y="2465280"/>
              <a:ext cx="5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GQ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7"/>
            <p:cNvSpPr/>
            <p:nvPr/>
          </p:nvSpPr>
          <p:spPr>
            <a:xfrm>
              <a:off x="2661840" y="2970000"/>
              <a:ext cx="5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Text Box 18"/>
            <p:cNvSpPr/>
            <p:nvPr/>
          </p:nvSpPr>
          <p:spPr>
            <a:xfrm>
              <a:off x="3378600" y="297000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Calibri"/>
                  <a:ea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Arc 19"/>
            <p:cNvSpPr/>
            <p:nvPr/>
          </p:nvSpPr>
          <p:spPr>
            <a:xfrm>
              <a:off x="2833560" y="2898360"/>
              <a:ext cx="870120" cy="24768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fill="none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</a:path>
                <a:path stroke="0" w="37350" h="21600">
                  <a:moveTo>
                    <a:pt x="0" y="10190"/>
                  </a:moveTo>
                  <a:cubicBezTo>
                    <a:pt x="3942" y="3852"/>
                    <a:pt x="10877" y="-1"/>
                    <a:pt x="18341" y="0"/>
                  </a:cubicBezTo>
                  <a:cubicBezTo>
                    <a:pt x="26280" y="0"/>
                    <a:pt x="33580" y="4355"/>
                    <a:pt x="37350" y="11342"/>
                  </a:cubicBezTo>
                  <a:lnTo>
                    <a:pt x="18341" y="21600"/>
                  </a:lnTo>
                  <a:lnTo>
                    <a:pt x="0" y="10190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8" name="Oval 25"/>
          <p:cNvSpPr/>
          <p:nvPr/>
        </p:nvSpPr>
        <p:spPr>
          <a:xfrm>
            <a:off x="3343320" y="5562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857760" y="2428920"/>
            <a:ext cx="150012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Cuadro de texto 10"/>
          <p:cNvSpPr/>
          <p:nvPr/>
        </p:nvSpPr>
        <p:spPr>
          <a:xfrm>
            <a:off x="2214720" y="3429000"/>
            <a:ext cx="1857240" cy="43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Acil-Co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Cuadro de texto 10"/>
          <p:cNvSpPr/>
          <p:nvPr/>
        </p:nvSpPr>
        <p:spPr>
          <a:xfrm>
            <a:off x="2214720" y="4898880"/>
            <a:ext cx="185724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R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-CH</a:t>
            </a:r>
            <a:r>
              <a:rPr b="1" lang="es-ES_tradnl" sz="14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–CO~S-C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  <a:ea typeface="Arial"/>
              </a:rPr>
              <a:t>Acil-Co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2" name="Picture 7" descr="trigi+1"/>
          <p:cNvPicPr/>
          <p:nvPr/>
        </p:nvPicPr>
        <p:blipFill>
          <a:blip r:embed="rId3"/>
          <a:srcRect l="2986" t="6176" r="73181" b="56766"/>
          <a:stretch/>
        </p:blipFill>
        <p:spPr>
          <a:xfrm>
            <a:off x="71280" y="2286000"/>
            <a:ext cx="1143000" cy="1285920"/>
          </a:xfrm>
          <a:prstGeom prst="rect">
            <a:avLst/>
          </a:prstGeom>
          <a:ln w="0">
            <a:noFill/>
          </a:ln>
        </p:spPr>
      </p:pic>
      <p:cxnSp>
        <p:nvCxnSpPr>
          <p:cNvPr id="873" name="45 Conector recto de flecha"/>
          <p:cNvCxnSpPr/>
          <p:nvPr/>
        </p:nvCxnSpPr>
        <p:spPr>
          <a:xfrm flipV="1">
            <a:off x="4932000" y="1366560"/>
            <a:ext cx="2283480" cy="4294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874" name="Oval 25"/>
          <p:cNvSpPr/>
          <p:nvPr/>
        </p:nvSpPr>
        <p:spPr>
          <a:xfrm>
            <a:off x="6300720" y="5013360"/>
            <a:ext cx="194472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685440" y="157140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          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Cuadro de texto 2"/>
          <p:cNvSpPr/>
          <p:nvPr/>
        </p:nvSpPr>
        <p:spPr>
          <a:xfrm>
            <a:off x="755640" y="4762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estino de los lípidos absorbidos en el intes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Elipse 5"/>
          <p:cNvSpPr/>
          <p:nvPr/>
        </p:nvSpPr>
        <p:spPr>
          <a:xfrm>
            <a:off x="5262480" y="457848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Elipse 6"/>
          <p:cNvSpPr/>
          <p:nvPr/>
        </p:nvSpPr>
        <p:spPr>
          <a:xfrm>
            <a:off x="2023920" y="227016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Línea 4"/>
          <p:cNvSpPr/>
          <p:nvPr/>
        </p:nvSpPr>
        <p:spPr>
          <a:xfrm>
            <a:off x="3422520" y="200664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Línea 5"/>
          <p:cNvSpPr/>
          <p:nvPr/>
        </p:nvSpPr>
        <p:spPr>
          <a:xfrm>
            <a:off x="4284720" y="323064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Línea 6"/>
          <p:cNvSpPr/>
          <p:nvPr/>
        </p:nvSpPr>
        <p:spPr>
          <a:xfrm>
            <a:off x="2023920" y="416736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Línea 4"/>
          <p:cNvSpPr/>
          <p:nvPr/>
        </p:nvSpPr>
        <p:spPr>
          <a:xfrm>
            <a:off x="5435640" y="533556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Línea 7"/>
          <p:cNvSpPr/>
          <p:nvPr/>
        </p:nvSpPr>
        <p:spPr>
          <a:xfrm>
            <a:off x="3247920" y="533556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Cuadro de texto 11"/>
          <p:cNvSpPr/>
          <p:nvPr/>
        </p:nvSpPr>
        <p:spPr>
          <a:xfrm>
            <a:off x="6012000" y="3027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Cuadro de texto 13"/>
          <p:cNvSpPr/>
          <p:nvPr/>
        </p:nvSpPr>
        <p:spPr>
          <a:xfrm>
            <a:off x="6659640" y="5100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6"/>
          <p:cNvSpPr/>
          <p:nvPr/>
        </p:nvSpPr>
        <p:spPr>
          <a:xfrm>
            <a:off x="172080" y="195120"/>
            <a:ext cx="88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Transporte de TG y otros lípidos hacia la circul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8"/>
          <p:cNvGrpSpPr/>
          <p:nvPr/>
        </p:nvGrpSpPr>
        <p:grpSpPr>
          <a:xfrm>
            <a:off x="1663560" y="907920"/>
            <a:ext cx="5788080" cy="5905800"/>
            <a:chOff x="1663560" y="907920"/>
            <a:chExt cx="5788080" cy="5905800"/>
          </a:xfrm>
        </p:grpSpPr>
        <p:pic>
          <p:nvPicPr>
            <p:cNvPr id="888" name="Picture 5" descr="figure_20_20_labeled"/>
            <p:cNvPicPr/>
            <p:nvPr/>
          </p:nvPicPr>
          <p:blipFill>
            <a:blip r:embed="rId1"/>
            <a:stretch/>
          </p:blipFill>
          <p:spPr>
            <a:xfrm>
              <a:off x="1663560" y="907920"/>
              <a:ext cx="5788080" cy="59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Rectangle 7"/>
            <p:cNvSpPr/>
            <p:nvPr/>
          </p:nvSpPr>
          <p:spPr>
            <a:xfrm>
              <a:off x="5003640" y="5013360"/>
              <a:ext cx="648000" cy="360360"/>
            </a:xfrm>
            <a:prstGeom prst="rect">
              <a:avLst/>
            </a:prstGeom>
            <a:solidFill>
              <a:srgbClr val="81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Text Box 9"/>
          <p:cNvSpPr/>
          <p:nvPr/>
        </p:nvSpPr>
        <p:spPr>
          <a:xfrm>
            <a:off x="5219640" y="4005360"/>
            <a:ext cx="1513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  <a:ea typeface="Arial"/>
              </a:rPr>
              <a:t>Quilomicr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611280" y="1341360"/>
            <a:ext cx="770400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504d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c0504d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4- MURRAY R y col., “Bioquimica de Harper”, Ed. El Manual Moderno, 14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º ed. (199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Calibri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504d"/>
                </a:solidFill>
                <a:latin typeface="Calibri"/>
              </a:rPr>
              <a:t>2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1 CuadroTexto"/>
          <p:cNvSpPr/>
          <p:nvPr/>
        </p:nvSpPr>
        <p:spPr>
          <a:xfrm>
            <a:off x="571680" y="642960"/>
            <a:ext cx="8321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1800" spc="-1" strike="noStrike">
                <a:solidFill>
                  <a:srgbClr val="0099ff"/>
                </a:solidFill>
                <a:latin typeface="Calibri"/>
              </a:rPr>
              <a:t>ácidos grasos saturados</a:t>
            </a:r>
            <a:r>
              <a:rPr b="1" lang="es-ES" sz="1800" spc="-1" strike="noStrike">
                <a:solidFill>
                  <a:srgbClr val="0099ff"/>
                </a:solidFill>
                <a:latin typeface="Calibri"/>
              </a:rPr>
              <a:t> varían en composición de 4 a 26 átomos de carbo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9640" y="1643040"/>
          <a:ext cx="8175600" cy="4425840"/>
        </p:xfrm>
        <a:graphic>
          <a:graphicData uri="http://schemas.openxmlformats.org/drawingml/2006/table">
            <a:tbl>
              <a:tblPr/>
              <a:tblGrid>
                <a:gridCol w="1594080"/>
                <a:gridCol w="1492200"/>
                <a:gridCol w="1490760"/>
                <a:gridCol w="3598560"/>
              </a:tblGrid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í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u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s-E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prí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áp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áu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o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rís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tr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lmít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x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steárico</a:t>
                      </a:r>
                      <a:r>
                        <a:rPr b="0" lang="es-ES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raquíd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icosa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s-ES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0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7" name="7 CuadroTexto"/>
          <p:cNvSpPr/>
          <p:nvPr/>
        </p:nvSpPr>
        <p:spPr>
          <a:xfrm>
            <a:off x="1523520" y="614376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Ácidos grasos saturados presentes en la mayoría de los ali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1 CuadroTexto"/>
          <p:cNvSpPr/>
          <p:nvPr/>
        </p:nvSpPr>
        <p:spPr>
          <a:xfrm>
            <a:off x="538200" y="698400"/>
            <a:ext cx="446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</a:t>
            </a: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ácidos grasos insaturados</a:t>
            </a: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 poseen dobles ligaduras en su cadena y tienen gran actividad química puesto que se hidrolizan y oxidan fácilmen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Calibri"/>
              </a:rPr>
              <a:t>Los siguientes son los ácidos grasos insaturados más comunes en 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alimentos de origen vegetal y pescados</a:t>
            </a:r>
            <a:r>
              <a:rPr b="0" lang="es-ES" sz="2000" spc="-1" strike="noStrike">
                <a:solidFill>
                  <a:srgbClr val="0099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714240" y="3279600"/>
          <a:ext cx="7858440" cy="3389400"/>
        </p:xfrm>
        <a:graphic>
          <a:graphicData uri="http://schemas.openxmlformats.org/drawingml/2006/table">
            <a:tbl>
              <a:tblPr/>
              <a:tblGrid>
                <a:gridCol w="1143000"/>
                <a:gridCol w="2786040"/>
                <a:gridCol w="1071720"/>
                <a:gridCol w="2857680"/>
              </a:tblGrid>
              <a:tr h="384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omú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mbre científ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condens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órmula extend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887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-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1ω9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-octadec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573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e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-d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2ω6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-octadecad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0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nolé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ctadeca-9:12:15-trienoico,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18:3ω3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 o </a:t>
                      </a:r>
                      <a:r>
                        <a:rPr b="1" i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s</a:t>
                      </a:r>
                      <a:r>
                        <a:rPr b="1" lang="es-ES_tradnl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9,12,15-octadecatrieno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s-ES_tradnl" sz="12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r>
                        <a:rPr b="1" lang="es-ES_tradnl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=CH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en-US" sz="1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CO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60" name="Picture 31" descr="acs grasos insaturados"/>
          <p:cNvPicPr/>
          <p:nvPr/>
        </p:nvPicPr>
        <p:blipFill>
          <a:blip r:embed="rId1"/>
          <a:stretch/>
        </p:blipFill>
        <p:spPr>
          <a:xfrm>
            <a:off x="5221440" y="631800"/>
            <a:ext cx="33112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1 CuadroTexto"/>
          <p:cNvSpPr/>
          <p:nvPr/>
        </p:nvSpPr>
        <p:spPr>
          <a:xfrm>
            <a:off x="108000" y="1138320"/>
            <a:ext cx="23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ff"/>
                </a:solidFill>
                <a:latin typeface="Calibri"/>
              </a:rPr>
              <a:t>No saponifi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2 Abrir llave"/>
          <p:cNvSpPr/>
          <p:nvPr/>
        </p:nvSpPr>
        <p:spPr>
          <a:xfrm>
            <a:off x="2193840" y="754200"/>
            <a:ext cx="217440" cy="1379520"/>
          </a:xfrm>
          <a:custGeom>
            <a:avLst/>
            <a:gdLst>
              <a:gd name="textAreaLeft" fmla="*/ 138960 w 217440"/>
              <a:gd name="textAreaRight" fmla="*/ 217800 w 217440"/>
              <a:gd name="textAreaTop" fmla="*/ 4680 h 1379520"/>
              <a:gd name="textAreaBottom" fmla="*/ 137484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551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49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3 CuadroTexto"/>
          <p:cNvSpPr/>
          <p:nvPr/>
        </p:nvSpPr>
        <p:spPr>
          <a:xfrm>
            <a:off x="2371680" y="6922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Vitaminas liposolubles (A, D, E, K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Calibri"/>
                <a:ea typeface="Arial"/>
              </a:rPr>
              <a:t>- Esteroides: colesterol, ácidos biliares, hormonas esteroideas como los estrógenos, la progesterona, la testoster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13"/>
          <p:cNvGrpSpPr/>
          <p:nvPr/>
        </p:nvGrpSpPr>
        <p:grpSpPr>
          <a:xfrm>
            <a:off x="5940360" y="476280"/>
            <a:ext cx="2592360" cy="2388240"/>
            <a:chOff x="5940360" y="476280"/>
            <a:chExt cx="2592360" cy="2388240"/>
          </a:xfrm>
        </p:grpSpPr>
        <p:pic>
          <p:nvPicPr>
            <p:cNvPr id="565" name="Picture 2" descr="17 Estructura CHO"/>
            <p:cNvPicPr/>
            <p:nvPr/>
          </p:nvPicPr>
          <p:blipFill>
            <a:blip r:embed="rId1">
              <a:grayscl/>
              <a:lum contrast="8000"/>
            </a:blip>
            <a:stretch/>
          </p:blipFill>
          <p:spPr>
            <a:xfrm>
              <a:off x="5940360" y="476280"/>
              <a:ext cx="2592360" cy="21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5 CuadroTexto"/>
            <p:cNvSpPr/>
            <p:nvPr/>
          </p:nvSpPr>
          <p:spPr>
            <a:xfrm>
              <a:off x="6802200" y="249624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7" name="Picture 16" descr="contenido de colesterol en los alimentos"/>
          <p:cNvPicPr/>
          <p:nvPr/>
        </p:nvPicPr>
        <p:blipFill>
          <a:blip r:embed="rId2"/>
          <a:stretch/>
        </p:blipFill>
        <p:spPr>
          <a:xfrm>
            <a:off x="611280" y="2530440"/>
            <a:ext cx="82818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76000" y="836280"/>
            <a:ext cx="60958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Calibri"/>
              </a:rPr>
              <a:t>Funciones de los 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Fuente de reserva energética (Triglicérid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Componentes de membranas (Fosfolípidos y Coleste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</a:rPr>
              <a:t>Reguladores Biológicos (hormonas esteroide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a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a808"/>
                </a:solidFill>
                <a:latin typeface="Calibri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a3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a304"/>
                </a:solidFill>
                <a:latin typeface="Calibri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74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c7404"/>
                </a:solidFill>
                <a:latin typeface="Calibri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4b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b4b05"/>
                </a:solidFill>
                <a:latin typeface="Calibri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1 Rectángulo"/>
          <p:cNvSpPr/>
          <p:nvPr/>
        </p:nvSpPr>
        <p:spPr>
          <a:xfrm>
            <a:off x="179280" y="115920"/>
            <a:ext cx="8640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Arial"/>
              </a:rPr>
              <a:t>METABOLISMO LIPID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sí, los lípido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- 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- Utilizados para la síntesis de constituyent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46c0a"/>
                </a:solidFill>
                <a:latin typeface="Arial Rounded MT Bold"/>
                <a:ea typeface="Arial"/>
              </a:rPr>
              <a:t>- 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2 CuadroTexto"/>
          <p:cNvSpPr/>
          <p:nvPr/>
        </p:nvSpPr>
        <p:spPr>
          <a:xfrm>
            <a:off x="324000" y="3003480"/>
            <a:ext cx="48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os lípidos presentes en los alimentos se encuentran generalmente en mayor concentración en aceites, manteca, yema de huevo. En general están presentes como triglicéridos (grasas neutras), ácidos grasos y sus derivados, fosfolípidos, glucolípidos, esteroles y vitaminas liposolub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H1104301-Fats-SPL"/>
          <p:cNvPicPr/>
          <p:nvPr/>
        </p:nvPicPr>
        <p:blipFill>
          <a:blip r:embed="rId1"/>
          <a:stretch/>
        </p:blipFill>
        <p:spPr>
          <a:xfrm>
            <a:off x="5508720" y="2781360"/>
            <a:ext cx="28033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Imagen 3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954680" cy="32864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trigi+1"/>
          <p:cNvPicPr/>
          <p:nvPr/>
        </p:nvPicPr>
        <p:blipFill>
          <a:blip r:embed="rId2"/>
          <a:stretch/>
        </p:blipFill>
        <p:spPr>
          <a:xfrm>
            <a:off x="5214960" y="100008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"/>
          <p:cNvPicPr/>
          <p:nvPr/>
        </p:nvPicPr>
        <p:blipFill>
          <a:blip r:embed="rId3"/>
          <a:stretch/>
        </p:blipFill>
        <p:spPr>
          <a:xfrm>
            <a:off x="5670720" y="4500720"/>
            <a:ext cx="27590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Imagen 2" descr=""/>
          <p:cNvPicPr/>
          <p:nvPr/>
        </p:nvPicPr>
        <p:blipFill>
          <a:blip r:embed="rId1"/>
          <a:stretch/>
        </p:blipFill>
        <p:spPr>
          <a:xfrm>
            <a:off x="461880" y="1071720"/>
            <a:ext cx="8253360" cy="5364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 Rounded MT Bold"/>
              </a:rPr>
              <a:t>Clasificación de los lípidos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Ana Anzulovich</cp:lastModifiedBy>
  <dcterms:modified xsi:type="dcterms:W3CDTF">2015-09-14T23:49:46Z</dcterms:modified>
  <cp:revision>120</cp:revision>
  <dc:subject/>
  <dc:title>Presentación de PowerPoint</dc:title>
</cp:coreProperties>
</file>